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7.wmf" ContentType="image/x-wmf"/>
  <Override PartName="/ppt/media/image23.png" ContentType="image/png"/>
  <Override PartName="/ppt/media/image22.png" ContentType="image/png"/>
  <Override PartName="/ppt/media/image20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2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5.png" ContentType="image/png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B9F-1D43-4A4A-8AF0-FC01BADE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E65-203C-4DAD-8798-0EC69F8B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43E-0DE6-4847-AB2F-536DEB68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BE2-CD6C-488A-B10B-E18EE007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BCD-9AA0-4088-8952-14560097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AA4-A40A-4075-A9DC-A48C974A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C1D-0C46-4D1A-8C85-AF9EB249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EE2-957A-4694-8737-72DEFE78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8B7-2FE6-4F09-BEDB-605E5936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C92-56D5-4384-9B52-56EB0BD0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63A-FFA7-471D-95B3-68CAD9A7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E9C-5666-4C3A-BA9A-5ED1B2F3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4A1D-B1AC-4D58-9F1A-81AF36DB2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hographic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2075040" y="1600200"/>
            <a:ext cx="499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803240"/>
            <a:ext cx="4038480" cy="4118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2"/>
          <a:stretch/>
        </p:blipFill>
        <p:spPr>
          <a:xfrm>
            <a:off x="4648320" y="2193840"/>
            <a:ext cx="4038480" cy="333864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4"/>
          <p:cNvGrpSpPr/>
          <p:nvPr/>
        </p:nvGrpSpPr>
        <p:grpSpPr>
          <a:xfrm>
            <a:off x="3276720" y="1968480"/>
            <a:ext cx="2616120" cy="1193760"/>
            <a:chOff x="3276720" y="1968480"/>
            <a:chExt cx="2616120" cy="1193760"/>
          </a:xfrm>
        </p:grpSpPr>
        <p:sp>
          <p:nvSpPr>
            <p:cNvPr id="276" name="Line 10"/>
            <p:cNvSpPr/>
            <p:nvPr/>
          </p:nvSpPr>
          <p:spPr>
            <a:xfrm flipH="1">
              <a:off x="3276720" y="1968480"/>
              <a:ext cx="1295280" cy="9270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>
              <a:off x="3606840" y="1994040"/>
              <a:ext cx="952560" cy="10411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2"/>
            <p:cNvSpPr/>
            <p:nvPr/>
          </p:nvSpPr>
          <p:spPr>
            <a:xfrm flipH="1">
              <a:off x="3873240" y="1968480"/>
              <a:ext cx="711000" cy="11937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3"/>
            <p:cNvSpPr/>
            <p:nvPr/>
          </p:nvSpPr>
          <p:spPr>
            <a:xfrm>
              <a:off x="4559400" y="1981080"/>
              <a:ext cx="1333440" cy="10922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457200" y="1760400"/>
            <a:ext cx="4038480" cy="4205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2"/>
          <a:stretch/>
        </p:blipFill>
        <p:spPr>
          <a:xfrm>
            <a:off x="4668840" y="1600200"/>
            <a:ext cx="3997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3733920" y="1600200"/>
            <a:ext cx="5186160" cy="5257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/>
          <p:cNvPicPr/>
          <p:nvPr/>
        </p:nvPicPr>
        <p:blipFill>
          <a:blip r:embed="rId2"/>
          <a:stretch/>
        </p:blipFill>
        <p:spPr>
          <a:xfrm>
            <a:off x="0" y="1523880"/>
            <a:ext cx="3584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152280" y="1757520"/>
            <a:ext cx="4508640" cy="4190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"/>
          <p:cNvPicPr/>
          <p:nvPr/>
        </p:nvPicPr>
        <p:blipFill>
          <a:blip r:embed="rId2"/>
          <a:stretch/>
        </p:blipFill>
        <p:spPr>
          <a:xfrm>
            <a:off x="4648320" y="1717560"/>
            <a:ext cx="403848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3886200" y="1569960"/>
            <a:ext cx="5002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155520" y="1512720"/>
            <a:ext cx="4792680" cy="4359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4714920" y="1739880"/>
            <a:ext cx="423864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1959120" y="1054080"/>
            <a:ext cx="552276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961920" y="787320"/>
            <a:ext cx="689940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1068480" y="698400"/>
            <a:ext cx="669600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6629400" y="3848040"/>
            <a:ext cx="2133360" cy="1955520"/>
            <a:chOff x="6629400" y="3848040"/>
            <a:chExt cx="2133360" cy="1955520"/>
          </a:xfrm>
        </p:grpSpPr>
        <p:sp>
          <p:nvSpPr>
            <p:cNvPr id="44" name="Rectangle 3"/>
            <p:cNvSpPr/>
            <p:nvPr/>
          </p:nvSpPr>
          <p:spPr>
            <a:xfrm>
              <a:off x="7607160" y="3848040"/>
              <a:ext cx="1155600" cy="9774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"/>
            <p:cNvSpPr/>
            <p:nvPr/>
          </p:nvSpPr>
          <p:spPr>
            <a:xfrm>
              <a:off x="6629400" y="3848040"/>
              <a:ext cx="1155240" cy="977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6629400" y="4825440"/>
              <a:ext cx="1155240" cy="978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6"/>
          <p:cNvSpPr/>
          <p:nvPr/>
        </p:nvSpPr>
        <p:spPr>
          <a:xfrm>
            <a:off x="7010280" y="407664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"/>
          <p:cNvGrpSpPr/>
          <p:nvPr/>
        </p:nvGrpSpPr>
        <p:grpSpPr>
          <a:xfrm>
            <a:off x="267120" y="1674720"/>
            <a:ext cx="1989360" cy="1558800"/>
            <a:chOff x="267120" y="1674720"/>
            <a:chExt cx="1989360" cy="1558800"/>
          </a:xfrm>
        </p:grpSpPr>
        <p:sp>
          <p:nvSpPr>
            <p:cNvPr id="49" name="AutoShape 8"/>
            <p:cNvSpPr/>
            <p:nvPr/>
          </p:nvSpPr>
          <p:spPr>
            <a:xfrm flipH="1" rot="9242400">
              <a:off x="364680" y="2023560"/>
              <a:ext cx="1793880" cy="860400"/>
            </a:xfrm>
            <a:prstGeom prst="parallelogram">
              <a:avLst>
                <a:gd name="adj" fmla="val 71544"/>
              </a:avLst>
            </a:prstGeom>
            <a:solidFill>
              <a:srgbClr val="99cc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0" name="Object 9"/>
            <p:cNvGraphicFramePr/>
            <p:nvPr/>
          </p:nvGraphicFramePr>
          <p:xfrm>
            <a:off x="1763640" y="2400480"/>
            <a:ext cx="328320" cy="157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63640" y="2400480"/>
                      <a:ext cx="328320" cy="15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" name="Group 10"/>
          <p:cNvGrpSpPr/>
          <p:nvPr/>
        </p:nvGrpSpPr>
        <p:grpSpPr>
          <a:xfrm>
            <a:off x="-92520" y="1050840"/>
            <a:ext cx="1755000" cy="1411920"/>
            <a:chOff x="-92520" y="1050840"/>
            <a:chExt cx="1755000" cy="1411920"/>
          </a:xfrm>
        </p:grpSpPr>
        <p:sp>
          <p:nvSpPr>
            <p:cNvPr id="53" name="AutoShape 11"/>
            <p:cNvSpPr/>
            <p:nvPr/>
          </p:nvSpPr>
          <p:spPr>
            <a:xfrm rot="19980000">
              <a:off x="0" y="1364400"/>
              <a:ext cx="1569960" cy="784800"/>
            </a:xfrm>
            <a:prstGeom prst="parallelogram">
              <a:avLst>
                <a:gd name="adj" fmla="val 50937"/>
              </a:avLst>
            </a:prstGeom>
            <a:solidFill>
              <a:srgbClr val="00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" name="Object 12"/>
            <p:cNvGraphicFramePr/>
            <p:nvPr/>
          </p:nvGraphicFramePr>
          <p:xfrm>
            <a:off x="1074600" y="1108080"/>
            <a:ext cx="205560" cy="248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74600" y="1108080"/>
                      <a:ext cx="205560" cy="2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" name="Group 13"/>
          <p:cNvGrpSpPr/>
          <p:nvPr/>
        </p:nvGrpSpPr>
        <p:grpSpPr>
          <a:xfrm>
            <a:off x="1027800" y="1044720"/>
            <a:ext cx="1725480" cy="1388880"/>
            <a:chOff x="1027800" y="1044720"/>
            <a:chExt cx="1725480" cy="1388880"/>
          </a:xfrm>
        </p:grpSpPr>
        <p:sp>
          <p:nvSpPr>
            <p:cNvPr id="57" name="AutoShape 14"/>
            <p:cNvSpPr/>
            <p:nvPr/>
          </p:nvSpPr>
          <p:spPr>
            <a:xfrm flipV="1" rot="1620000">
              <a:off x="1118880" y="1352880"/>
              <a:ext cx="1542960" cy="772560"/>
            </a:xfrm>
            <a:prstGeom prst="parallelogram">
              <a:avLst>
                <a:gd name="adj" fmla="val 50855"/>
              </a:avLst>
            </a:prstGeom>
            <a:solidFill>
              <a:srgbClr val="ccff33"/>
            </a:solidFill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" name="Object 15"/>
            <p:cNvGraphicFramePr/>
            <p:nvPr/>
          </p:nvGraphicFramePr>
          <p:xfrm>
            <a:off x="1471680" y="1262160"/>
            <a:ext cx="793440" cy="50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Object 1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71680" y="1262160"/>
                      <a:ext cx="793440" cy="50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" name="Text Box 16"/>
          <p:cNvSpPr/>
          <p:nvPr/>
        </p:nvSpPr>
        <p:spPr>
          <a:xfrm rot="21105600">
            <a:off x="12600" y="2387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 rot="21105600">
            <a:off x="1303200" y="1722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 flipH="1" flipV="1">
            <a:off x="777600" y="1749600"/>
            <a:ext cx="639720" cy="320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rc 19"/>
          <p:cNvSpPr/>
          <p:nvPr/>
        </p:nvSpPr>
        <p:spPr>
          <a:xfrm rot="5866800">
            <a:off x="264600" y="2903040"/>
            <a:ext cx="897120" cy="89712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20"/>
          <p:cNvSpPr/>
          <p:nvPr/>
        </p:nvSpPr>
        <p:spPr>
          <a:xfrm rot="2385000">
            <a:off x="1785600" y="576360"/>
            <a:ext cx="896760" cy="84600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264960" y="25178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1225440" y="571680"/>
            <a:ext cx="121788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>
            <a:off x="1225440" y="2646360"/>
            <a:ext cx="0" cy="25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 flipV="1">
            <a:off x="1828800" y="1714320"/>
            <a:ext cx="255600" cy="128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5"/>
          <p:cNvGrpSpPr/>
          <p:nvPr/>
        </p:nvGrpSpPr>
        <p:grpSpPr>
          <a:xfrm>
            <a:off x="364320" y="3879360"/>
            <a:ext cx="2774880" cy="2316600"/>
            <a:chOff x="364320" y="3879360"/>
            <a:chExt cx="2774880" cy="2316600"/>
          </a:xfrm>
        </p:grpSpPr>
        <p:sp>
          <p:nvSpPr>
            <p:cNvPr id="70" name="AutoShape 26"/>
            <p:cNvSpPr/>
            <p:nvPr/>
          </p:nvSpPr>
          <p:spPr>
            <a:xfrm rot="19980000">
              <a:off x="457200" y="5093640"/>
              <a:ext cx="1574640" cy="787320"/>
            </a:xfrm>
            <a:prstGeom prst="parallelogram">
              <a:avLst>
                <a:gd name="adj" fmla="val 50926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27"/>
            <p:cNvGrpSpPr/>
            <p:nvPr/>
          </p:nvGrpSpPr>
          <p:grpSpPr>
            <a:xfrm>
              <a:off x="364320" y="3879360"/>
              <a:ext cx="2774880" cy="1970640"/>
              <a:chOff x="364320" y="3879360"/>
              <a:chExt cx="2774880" cy="1970640"/>
            </a:xfrm>
          </p:grpSpPr>
          <p:grpSp>
            <p:nvGrpSpPr>
              <p:cNvPr id="72" name="Group 28"/>
              <p:cNvGrpSpPr/>
              <p:nvPr/>
            </p:nvGrpSpPr>
            <p:grpSpPr>
              <a:xfrm>
                <a:off x="364320" y="3895200"/>
                <a:ext cx="1760400" cy="1416600"/>
                <a:chOff x="364320" y="3895200"/>
                <a:chExt cx="1760400" cy="1416600"/>
              </a:xfrm>
            </p:grpSpPr>
            <p:sp>
              <p:nvSpPr>
                <p:cNvPr id="73" name="AutoShape 29"/>
                <p:cNvSpPr/>
                <p:nvPr/>
              </p:nvSpPr>
              <p:spPr>
                <a:xfrm rot="19980000">
                  <a:off x="457200" y="4209480"/>
                  <a:ext cx="1574640" cy="787320"/>
                </a:xfrm>
                <a:prstGeom prst="parallelogram">
                  <a:avLst>
                    <a:gd name="adj" fmla="val 50926"/>
                  </a:avLst>
                </a:prstGeom>
                <a:solidFill>
                  <a:srgbClr val="0099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74" name="Object 30"/>
                <p:cNvGraphicFramePr/>
                <p:nvPr/>
              </p:nvGraphicFramePr>
              <p:xfrm>
                <a:off x="1535040" y="3952800"/>
                <a:ext cx="205920" cy="2491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75" name="Object 30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535040" y="3952800"/>
                          <a:ext cx="205920" cy="249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76" name="Group 31"/>
              <p:cNvGrpSpPr/>
              <p:nvPr/>
            </p:nvGrpSpPr>
            <p:grpSpPr>
              <a:xfrm>
                <a:off x="1410120" y="3879360"/>
                <a:ext cx="1729080" cy="1391040"/>
                <a:chOff x="1410120" y="3879360"/>
                <a:chExt cx="1729080" cy="1391040"/>
              </a:xfrm>
            </p:grpSpPr>
            <p:sp>
              <p:nvSpPr>
                <p:cNvPr id="77" name="AutoShape 32"/>
                <p:cNvSpPr/>
                <p:nvPr/>
              </p:nvSpPr>
              <p:spPr>
                <a:xfrm flipV="1" rot="1620000">
                  <a:off x="1501200" y="4188240"/>
                  <a:ext cx="1546560" cy="773280"/>
                </a:xfrm>
                <a:prstGeom prst="parallelogram">
                  <a:avLst>
                    <a:gd name="adj" fmla="val 50926"/>
                  </a:avLst>
                </a:prstGeom>
                <a:solidFill>
                  <a:srgbClr val="ccff33"/>
                </a:solidFill>
                <a:ln w="284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78" name="Object 33"/>
                <p:cNvGraphicFramePr/>
                <p:nvPr/>
              </p:nvGraphicFramePr>
              <p:xfrm>
                <a:off x="1854360" y="4097520"/>
                <a:ext cx="795240" cy="5097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79" name="Object 33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1854360" y="4097520"/>
                          <a:ext cx="795240" cy="5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80" name="Line 34"/>
              <p:cNvSpPr/>
              <p:nvPr/>
            </p:nvSpPr>
            <p:spPr>
              <a:xfrm flipH="1" flipV="1">
                <a:off x="2083320" y="5085720"/>
                <a:ext cx="642600" cy="32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Group 35"/>
              <p:cNvGrpSpPr/>
              <p:nvPr/>
            </p:nvGrpSpPr>
            <p:grpSpPr>
              <a:xfrm>
                <a:off x="1421280" y="5318640"/>
                <a:ext cx="307440" cy="531360"/>
                <a:chOff x="1421280" y="5318640"/>
                <a:chExt cx="307440" cy="531360"/>
              </a:xfrm>
            </p:grpSpPr>
            <p:sp>
              <p:nvSpPr>
                <p:cNvPr id="82" name="Freeform 36"/>
                <p:cNvSpPr/>
                <p:nvPr/>
              </p:nvSpPr>
              <p:spPr>
                <a:xfrm>
                  <a:off x="1481040" y="5318640"/>
                  <a:ext cx="15480" cy="4032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7"/>
                <p:cNvSpPr/>
                <p:nvPr/>
              </p:nvSpPr>
              <p:spPr>
                <a:xfrm>
                  <a:off x="1425960" y="5590800"/>
                  <a:ext cx="109800" cy="25092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8"/>
                <p:cNvSpPr/>
                <p:nvPr/>
              </p:nvSpPr>
              <p:spPr>
                <a:xfrm>
                  <a:off x="1573200" y="5685120"/>
                  <a:ext cx="15480" cy="4428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9"/>
                <p:cNvSpPr/>
                <p:nvPr/>
              </p:nvSpPr>
              <p:spPr>
                <a:xfrm>
                  <a:off x="1626120" y="5471280"/>
                  <a:ext cx="96840" cy="21600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0"/>
                <p:cNvSpPr/>
                <p:nvPr/>
              </p:nvSpPr>
              <p:spPr>
                <a:xfrm>
                  <a:off x="1703880" y="5586120"/>
                  <a:ext cx="16560" cy="4176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1"/>
                <p:cNvSpPr/>
                <p:nvPr/>
              </p:nvSpPr>
              <p:spPr>
                <a:xfrm>
                  <a:off x="1421280" y="5582520"/>
                  <a:ext cx="119520" cy="26748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2"/>
                <p:cNvSpPr/>
                <p:nvPr/>
              </p:nvSpPr>
              <p:spPr>
                <a:xfrm>
                  <a:off x="1568520" y="5675760"/>
                  <a:ext cx="24840" cy="6228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3"/>
                <p:cNvSpPr/>
                <p:nvPr/>
              </p:nvSpPr>
              <p:spPr>
                <a:xfrm>
                  <a:off x="1621440" y="5467680"/>
                  <a:ext cx="107280" cy="22932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4"/>
                <p:cNvSpPr/>
                <p:nvPr/>
              </p:nvSpPr>
              <p:spPr>
                <a:xfrm>
                  <a:off x="1699200" y="5575320"/>
                  <a:ext cx="25200" cy="6192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" name="Group 45"/>
          <p:cNvGrpSpPr/>
          <p:nvPr/>
        </p:nvGrpSpPr>
        <p:grpSpPr>
          <a:xfrm>
            <a:off x="3417840" y="3567600"/>
            <a:ext cx="2384280" cy="2544480"/>
            <a:chOff x="3417840" y="3567600"/>
            <a:chExt cx="2384280" cy="2544480"/>
          </a:xfrm>
        </p:grpSpPr>
        <p:sp>
          <p:nvSpPr>
            <p:cNvPr id="92" name="AutoShape 46"/>
            <p:cNvSpPr/>
            <p:nvPr/>
          </p:nvSpPr>
          <p:spPr>
            <a:xfrm rot="19980000">
              <a:off x="4231440" y="3863520"/>
              <a:ext cx="1483200" cy="741600"/>
            </a:xfrm>
            <a:prstGeom prst="parallelogram">
              <a:avLst>
                <a:gd name="adj" fmla="val 50926"/>
              </a:avLst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47"/>
            <p:cNvGrpSpPr/>
            <p:nvPr/>
          </p:nvGrpSpPr>
          <p:grpSpPr>
            <a:xfrm>
              <a:off x="3425400" y="3930480"/>
              <a:ext cx="1658160" cy="1333800"/>
              <a:chOff x="3425400" y="3930480"/>
              <a:chExt cx="1658160" cy="1333800"/>
            </a:xfrm>
          </p:grpSpPr>
          <p:sp>
            <p:nvSpPr>
              <p:cNvPr id="94" name="AutoShape 48"/>
              <p:cNvSpPr/>
              <p:nvPr/>
            </p:nvSpPr>
            <p:spPr>
              <a:xfrm rot="19980000">
                <a:off x="3512880" y="4226400"/>
                <a:ext cx="1483200" cy="741600"/>
              </a:xfrm>
              <a:prstGeom prst="parallelogram">
                <a:avLst>
                  <a:gd name="adj" fmla="val 50926"/>
                </a:avLst>
              </a:prstGeom>
              <a:solidFill>
                <a:srgbClr val="0099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5" name="Object 49"/>
              <p:cNvGraphicFramePr/>
              <p:nvPr/>
            </p:nvGraphicFramePr>
            <p:xfrm>
              <a:off x="4528080" y="3984840"/>
              <a:ext cx="194040" cy="2347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96" name="Object 49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528080" y="3984840"/>
                        <a:ext cx="194040" cy="234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Line 50"/>
            <p:cNvSpPr/>
            <p:nvPr/>
          </p:nvSpPr>
          <p:spPr>
            <a:xfrm flipH="1" flipV="1">
              <a:off x="5037120" y="5074560"/>
              <a:ext cx="605160" cy="30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1"/>
            <p:cNvSpPr/>
            <p:nvPr/>
          </p:nvSpPr>
          <p:spPr>
            <a:xfrm rot="19980000">
              <a:off x="3505320" y="5074200"/>
              <a:ext cx="1483200" cy="741600"/>
            </a:xfrm>
            <a:prstGeom prst="parallelogram">
              <a:avLst>
                <a:gd name="adj" fmla="val 50926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2"/>
            <p:cNvGrpSpPr/>
            <p:nvPr/>
          </p:nvGrpSpPr>
          <p:grpSpPr>
            <a:xfrm>
              <a:off x="3989520" y="4469040"/>
              <a:ext cx="302040" cy="401760"/>
              <a:chOff x="3989520" y="4469040"/>
              <a:chExt cx="302040" cy="401760"/>
            </a:xfrm>
          </p:grpSpPr>
          <p:sp>
            <p:nvSpPr>
              <p:cNvPr id="100" name="Freeform 53"/>
              <p:cNvSpPr/>
              <p:nvPr/>
            </p:nvSpPr>
            <p:spPr>
              <a:xfrm>
                <a:off x="3994200" y="4621680"/>
                <a:ext cx="87120" cy="2404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4"/>
              <p:cNvSpPr/>
              <p:nvPr/>
            </p:nvSpPr>
            <p:spPr>
              <a:xfrm>
                <a:off x="4091400" y="4742280"/>
                <a:ext cx="16200" cy="442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5"/>
              <p:cNvSpPr/>
              <p:nvPr/>
            </p:nvSpPr>
            <p:spPr>
              <a:xfrm>
                <a:off x="4130640" y="4474080"/>
                <a:ext cx="142200" cy="2329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6"/>
              <p:cNvSpPr/>
              <p:nvPr/>
            </p:nvSpPr>
            <p:spPr>
              <a:xfrm>
                <a:off x="4267800" y="4605120"/>
                <a:ext cx="20160" cy="4500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7"/>
              <p:cNvSpPr/>
              <p:nvPr/>
            </p:nvSpPr>
            <p:spPr>
              <a:xfrm>
                <a:off x="3989520" y="4612680"/>
                <a:ext cx="96840" cy="2581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8"/>
              <p:cNvSpPr/>
              <p:nvPr/>
            </p:nvSpPr>
            <p:spPr>
              <a:xfrm>
                <a:off x="4086360" y="4731120"/>
                <a:ext cx="26280" cy="651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59"/>
              <p:cNvSpPr/>
              <p:nvPr/>
            </p:nvSpPr>
            <p:spPr>
              <a:xfrm>
                <a:off x="4122720" y="4469040"/>
                <a:ext cx="154800" cy="2444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0"/>
              <p:cNvSpPr/>
              <p:nvPr/>
            </p:nvSpPr>
            <p:spPr>
              <a:xfrm>
                <a:off x="4262760" y="4595040"/>
                <a:ext cx="28800" cy="655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61"/>
            <p:cNvGrpSpPr/>
            <p:nvPr/>
          </p:nvGrpSpPr>
          <p:grpSpPr>
            <a:xfrm>
              <a:off x="4836960" y="3984840"/>
              <a:ext cx="424440" cy="478800"/>
              <a:chOff x="4836960" y="3984840"/>
              <a:chExt cx="424440" cy="478800"/>
            </a:xfrm>
          </p:grpSpPr>
          <p:sp>
            <p:nvSpPr>
              <p:cNvPr id="109" name="Freeform 62"/>
              <p:cNvSpPr/>
              <p:nvPr/>
            </p:nvSpPr>
            <p:spPr>
              <a:xfrm>
                <a:off x="4840920" y="4290480"/>
                <a:ext cx="68040" cy="1652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3"/>
              <p:cNvSpPr/>
              <p:nvPr/>
            </p:nvSpPr>
            <p:spPr>
              <a:xfrm>
                <a:off x="4930560" y="4346280"/>
                <a:ext cx="15480" cy="403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4"/>
              <p:cNvSpPr/>
              <p:nvPr/>
            </p:nvSpPr>
            <p:spPr>
              <a:xfrm>
                <a:off x="4974120" y="4150440"/>
                <a:ext cx="87120" cy="1821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5"/>
              <p:cNvSpPr/>
              <p:nvPr/>
            </p:nvSpPr>
            <p:spPr>
              <a:xfrm>
                <a:off x="5117760" y="3989160"/>
                <a:ext cx="128520" cy="2080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6"/>
              <p:cNvSpPr/>
              <p:nvPr/>
            </p:nvSpPr>
            <p:spPr>
              <a:xfrm>
                <a:off x="5242680" y="4106880"/>
                <a:ext cx="14400" cy="388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7"/>
              <p:cNvSpPr/>
              <p:nvPr/>
            </p:nvSpPr>
            <p:spPr>
              <a:xfrm>
                <a:off x="4836960" y="4281480"/>
                <a:ext cx="77040" cy="1821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68"/>
              <p:cNvSpPr/>
              <p:nvPr/>
            </p:nvSpPr>
            <p:spPr>
              <a:xfrm>
                <a:off x="4926240" y="4337280"/>
                <a:ext cx="23400" cy="579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69"/>
              <p:cNvSpPr/>
              <p:nvPr/>
            </p:nvSpPr>
            <p:spPr>
              <a:xfrm>
                <a:off x="4969800" y="4145760"/>
                <a:ext cx="96120" cy="1911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0"/>
              <p:cNvSpPr/>
              <p:nvPr/>
            </p:nvSpPr>
            <p:spPr>
              <a:xfrm>
                <a:off x="5081400" y="4218840"/>
                <a:ext cx="23400" cy="579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1"/>
              <p:cNvSpPr/>
              <p:nvPr/>
            </p:nvSpPr>
            <p:spPr>
              <a:xfrm>
                <a:off x="5113080" y="3984840"/>
                <a:ext cx="137160" cy="2192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2"/>
              <p:cNvSpPr/>
              <p:nvPr/>
            </p:nvSpPr>
            <p:spPr>
              <a:xfrm>
                <a:off x="5238360" y="4096800"/>
                <a:ext cx="23040" cy="579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73"/>
            <p:cNvGrpSpPr/>
            <p:nvPr/>
          </p:nvGrpSpPr>
          <p:grpSpPr>
            <a:xfrm>
              <a:off x="4000680" y="5256360"/>
              <a:ext cx="278280" cy="344880"/>
              <a:chOff x="4000680" y="5256360"/>
              <a:chExt cx="278280" cy="344880"/>
            </a:xfrm>
          </p:grpSpPr>
          <p:sp>
            <p:nvSpPr>
              <p:cNvPr id="121" name="Freeform 74"/>
              <p:cNvSpPr/>
              <p:nvPr/>
            </p:nvSpPr>
            <p:spPr>
              <a:xfrm>
                <a:off x="4005000" y="5396400"/>
                <a:ext cx="80280" cy="1958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5"/>
              <p:cNvSpPr/>
              <p:nvPr/>
            </p:nvSpPr>
            <p:spPr>
              <a:xfrm>
                <a:off x="4094640" y="5507640"/>
                <a:ext cx="14760" cy="424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6"/>
              <p:cNvSpPr/>
              <p:nvPr/>
            </p:nvSpPr>
            <p:spPr>
              <a:xfrm>
                <a:off x="4129200" y="5260680"/>
                <a:ext cx="132480" cy="2156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7"/>
              <p:cNvSpPr/>
              <p:nvPr/>
            </p:nvSpPr>
            <p:spPr>
              <a:xfrm>
                <a:off x="4259520" y="5383800"/>
                <a:ext cx="14760" cy="392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78"/>
              <p:cNvSpPr/>
              <p:nvPr/>
            </p:nvSpPr>
            <p:spPr>
              <a:xfrm>
                <a:off x="4000680" y="5387040"/>
                <a:ext cx="89280" cy="21420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9"/>
              <p:cNvSpPr/>
              <p:nvPr/>
            </p:nvSpPr>
            <p:spPr>
              <a:xfrm>
                <a:off x="4089960" y="5499720"/>
                <a:ext cx="24480" cy="590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0"/>
              <p:cNvSpPr/>
              <p:nvPr/>
            </p:nvSpPr>
            <p:spPr>
              <a:xfrm>
                <a:off x="4123440" y="5256360"/>
                <a:ext cx="142560" cy="22680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1"/>
              <p:cNvSpPr/>
              <p:nvPr/>
            </p:nvSpPr>
            <p:spPr>
              <a:xfrm>
                <a:off x="4252680" y="5371920"/>
                <a:ext cx="26280" cy="601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82"/>
            <p:cNvGrpSpPr/>
            <p:nvPr/>
          </p:nvGrpSpPr>
          <p:grpSpPr>
            <a:xfrm>
              <a:off x="5234400" y="3629160"/>
              <a:ext cx="175320" cy="241920"/>
              <a:chOff x="5234400" y="3629160"/>
              <a:chExt cx="175320" cy="241920"/>
            </a:xfrm>
          </p:grpSpPr>
          <p:sp>
            <p:nvSpPr>
              <p:cNvPr id="130" name="Freeform 83"/>
              <p:cNvSpPr/>
              <p:nvPr/>
            </p:nvSpPr>
            <p:spPr>
              <a:xfrm>
                <a:off x="5237640" y="3706200"/>
                <a:ext cx="72720" cy="1587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4"/>
              <p:cNvSpPr/>
              <p:nvPr/>
            </p:nvSpPr>
            <p:spPr>
              <a:xfrm>
                <a:off x="5294880" y="3790440"/>
                <a:ext cx="12240" cy="3060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5"/>
              <p:cNvSpPr/>
              <p:nvPr/>
            </p:nvSpPr>
            <p:spPr>
              <a:xfrm>
                <a:off x="5335920" y="3632400"/>
                <a:ext cx="70200" cy="1580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6"/>
              <p:cNvSpPr/>
              <p:nvPr/>
            </p:nvSpPr>
            <p:spPr>
              <a:xfrm>
                <a:off x="5234400" y="3702600"/>
                <a:ext cx="79560" cy="1684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7"/>
              <p:cNvSpPr/>
              <p:nvPr/>
            </p:nvSpPr>
            <p:spPr>
              <a:xfrm>
                <a:off x="5292000" y="3782520"/>
                <a:ext cx="18000" cy="446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88"/>
              <p:cNvSpPr/>
              <p:nvPr/>
            </p:nvSpPr>
            <p:spPr>
              <a:xfrm>
                <a:off x="5330880" y="3629160"/>
                <a:ext cx="78840" cy="1684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89"/>
              <p:cNvSpPr/>
              <p:nvPr/>
            </p:nvSpPr>
            <p:spPr>
              <a:xfrm>
                <a:off x="5387760" y="3709800"/>
                <a:ext cx="18360" cy="439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90"/>
            <p:cNvGrpSpPr/>
            <p:nvPr/>
          </p:nvGrpSpPr>
          <p:grpSpPr>
            <a:xfrm>
              <a:off x="4451400" y="5328000"/>
              <a:ext cx="254520" cy="439560"/>
              <a:chOff x="4451400" y="5328000"/>
              <a:chExt cx="254520" cy="439560"/>
            </a:xfrm>
          </p:grpSpPr>
          <p:sp>
            <p:nvSpPr>
              <p:cNvPr id="138" name="Freeform 91"/>
              <p:cNvSpPr/>
              <p:nvPr/>
            </p:nvSpPr>
            <p:spPr>
              <a:xfrm>
                <a:off x="4500720" y="5328000"/>
                <a:ext cx="12600" cy="334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2"/>
              <p:cNvSpPr/>
              <p:nvPr/>
            </p:nvSpPr>
            <p:spPr>
              <a:xfrm>
                <a:off x="4455360" y="5553360"/>
                <a:ext cx="90720" cy="2073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3"/>
              <p:cNvSpPr/>
              <p:nvPr/>
            </p:nvSpPr>
            <p:spPr>
              <a:xfrm>
                <a:off x="4577040" y="5631120"/>
                <a:ext cx="12600" cy="367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4"/>
              <p:cNvSpPr/>
              <p:nvPr/>
            </p:nvSpPr>
            <p:spPr>
              <a:xfrm>
                <a:off x="4620600" y="5454360"/>
                <a:ext cx="79920" cy="1789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5"/>
              <p:cNvSpPr/>
              <p:nvPr/>
            </p:nvSpPr>
            <p:spPr>
              <a:xfrm>
                <a:off x="4685040" y="5549040"/>
                <a:ext cx="13680" cy="345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6"/>
              <p:cNvSpPr/>
              <p:nvPr/>
            </p:nvSpPr>
            <p:spPr>
              <a:xfrm>
                <a:off x="4451400" y="5546160"/>
                <a:ext cx="99000" cy="22140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7"/>
              <p:cNvSpPr/>
              <p:nvPr/>
            </p:nvSpPr>
            <p:spPr>
              <a:xfrm>
                <a:off x="4573440" y="5623560"/>
                <a:ext cx="20520" cy="514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98"/>
              <p:cNvSpPr/>
              <p:nvPr/>
            </p:nvSpPr>
            <p:spPr>
              <a:xfrm>
                <a:off x="4617000" y="5451480"/>
                <a:ext cx="88920" cy="1897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99"/>
              <p:cNvSpPr/>
              <p:nvPr/>
            </p:nvSpPr>
            <p:spPr>
              <a:xfrm>
                <a:off x="4681080" y="5540400"/>
                <a:ext cx="20880" cy="511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Text Box 100"/>
          <p:cNvSpPr/>
          <p:nvPr/>
        </p:nvSpPr>
        <p:spPr>
          <a:xfrm>
            <a:off x="333360" y="6210360"/>
            <a:ext cx="265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P IS ROTATED DOWNWARD  9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BROUGHT IN THE PLANE OF F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1"/>
          <p:cNvSpPr/>
          <p:nvPr/>
        </p:nvSpPr>
        <p:spPr>
          <a:xfrm>
            <a:off x="2982600" y="6205680"/>
            <a:ext cx="284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PP  IS ROTATED IN  RIGHT SIDE  90</a:t>
            </a:r>
            <a:r>
              <a:rPr b="1" lang="en-US" sz="12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BROUGHT IN THE PLANE OF FP.</a:t>
            </a:r>
            <a:r>
              <a:rPr b="1" lang="en-US" sz="12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2"/>
          <p:cNvGrpSpPr/>
          <p:nvPr/>
        </p:nvGrpSpPr>
        <p:grpSpPr>
          <a:xfrm>
            <a:off x="3430800" y="3919680"/>
            <a:ext cx="2331360" cy="1287360"/>
            <a:chOff x="3430800" y="3919680"/>
            <a:chExt cx="2331360" cy="1287360"/>
          </a:xfrm>
        </p:grpSpPr>
        <p:sp>
          <p:nvSpPr>
            <p:cNvPr id="150" name="Text Box 103"/>
            <p:cNvSpPr/>
            <p:nvPr/>
          </p:nvSpPr>
          <p:spPr>
            <a:xfrm>
              <a:off x="3430800" y="48387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04"/>
            <p:cNvSpPr/>
            <p:nvPr/>
          </p:nvSpPr>
          <p:spPr>
            <a:xfrm>
              <a:off x="5416920" y="3919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05"/>
          <p:cNvSpPr/>
          <p:nvPr/>
        </p:nvSpPr>
        <p:spPr>
          <a:xfrm>
            <a:off x="6326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6"/>
          <p:cNvSpPr/>
          <p:nvPr/>
        </p:nvSpPr>
        <p:spPr>
          <a:xfrm>
            <a:off x="879660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07"/>
          <p:cNvGrpSpPr/>
          <p:nvPr/>
        </p:nvGrpSpPr>
        <p:grpSpPr>
          <a:xfrm>
            <a:off x="6588000" y="3790800"/>
            <a:ext cx="2230200" cy="2039040"/>
            <a:chOff x="6588000" y="3790800"/>
            <a:chExt cx="2230200" cy="2039040"/>
          </a:xfrm>
        </p:grpSpPr>
        <p:sp>
          <p:nvSpPr>
            <p:cNvPr id="155" name="Text Box 108"/>
            <p:cNvSpPr/>
            <p:nvPr/>
          </p:nvSpPr>
          <p:spPr>
            <a:xfrm>
              <a:off x="6588000" y="38192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9"/>
            <p:cNvSpPr/>
            <p:nvPr/>
          </p:nvSpPr>
          <p:spPr>
            <a:xfrm>
              <a:off x="6601680" y="549252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10"/>
            <p:cNvSpPr/>
            <p:nvPr/>
          </p:nvSpPr>
          <p:spPr>
            <a:xfrm>
              <a:off x="8411760" y="37908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11"/>
          <p:cNvSpPr/>
          <p:nvPr/>
        </p:nvSpPr>
        <p:spPr>
          <a:xfrm>
            <a:off x="7026120" y="4091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12"/>
          <p:cNvGrpSpPr/>
          <p:nvPr/>
        </p:nvGrpSpPr>
        <p:grpSpPr>
          <a:xfrm>
            <a:off x="5833800" y="5981760"/>
            <a:ext cx="3317040" cy="839880"/>
            <a:chOff x="5833800" y="5981760"/>
            <a:chExt cx="3317040" cy="839880"/>
          </a:xfrm>
        </p:grpSpPr>
        <p:sp>
          <p:nvSpPr>
            <p:cNvPr id="160" name="Rectangle 113"/>
            <p:cNvSpPr/>
            <p:nvPr/>
          </p:nvSpPr>
          <p:spPr>
            <a:xfrm>
              <a:off x="5892840" y="5981760"/>
              <a:ext cx="3200040" cy="838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14"/>
            <p:cNvSpPr/>
            <p:nvPr/>
          </p:nvSpPr>
          <p:spPr>
            <a:xfrm>
              <a:off x="5833800" y="5997600"/>
              <a:ext cx="3317040" cy="824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60093"/>
                  </a:solidFill>
                  <a:latin typeface="Times New Roman"/>
                </a:rPr>
                <a:t>ACTUAL PATTERN OF PLANES &amp; VIEW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60093"/>
                  </a:solidFill>
                  <a:latin typeface="Times New Roman"/>
                </a:rPr>
                <a:t>OF ORTHOGRAPHIC PROJECTION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60093"/>
                  </a:solidFill>
                  <a:latin typeface="Times New Roman"/>
                </a:rPr>
                <a:t>DRAWN I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60093"/>
                  </a:solidFill>
                  <a:latin typeface="Times New Roman"/>
                </a:rPr>
                <a:t>FIRST ANGLE METHOD OF PROJE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Arc 115"/>
          <p:cNvSpPr/>
          <p:nvPr/>
        </p:nvSpPr>
        <p:spPr>
          <a:xfrm rot="2385000">
            <a:off x="2209320" y="3306600"/>
            <a:ext cx="897120" cy="8463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6"/>
          <p:cNvSpPr/>
          <p:nvPr/>
        </p:nvSpPr>
        <p:spPr>
          <a:xfrm flipV="1">
            <a:off x="1752480" y="333504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7"/>
          <p:cNvSpPr/>
          <p:nvPr/>
        </p:nvSpPr>
        <p:spPr>
          <a:xfrm>
            <a:off x="8001000" y="407664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8"/>
          <p:cNvSpPr/>
          <p:nvPr/>
        </p:nvSpPr>
        <p:spPr>
          <a:xfrm>
            <a:off x="7010280" y="488628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9"/>
          <p:cNvSpPr/>
          <p:nvPr/>
        </p:nvSpPr>
        <p:spPr>
          <a:xfrm>
            <a:off x="7969320" y="40910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S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0"/>
          <p:cNvSpPr/>
          <p:nvPr/>
        </p:nvSpPr>
        <p:spPr>
          <a:xfrm>
            <a:off x="7017120" y="49291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21"/>
          <p:cNvGrpSpPr/>
          <p:nvPr/>
        </p:nvGrpSpPr>
        <p:grpSpPr>
          <a:xfrm>
            <a:off x="2907360" y="1676520"/>
            <a:ext cx="6240240" cy="877320"/>
            <a:chOff x="2907360" y="1676520"/>
            <a:chExt cx="6240240" cy="877320"/>
          </a:xfrm>
        </p:grpSpPr>
        <p:sp>
          <p:nvSpPr>
            <p:cNvPr id="169" name="Rectangle 122"/>
            <p:cNvSpPr/>
            <p:nvPr/>
          </p:nvSpPr>
          <p:spPr>
            <a:xfrm>
              <a:off x="2927160" y="1697040"/>
              <a:ext cx="6086520" cy="856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3"/>
            <p:cNvSpPr/>
            <p:nvPr/>
          </p:nvSpPr>
          <p:spPr>
            <a:xfrm>
              <a:off x="2907360" y="1676520"/>
              <a:ext cx="6240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60093"/>
                  </a:solidFill>
                  <a:latin typeface="Times New Roman"/>
                </a:rPr>
                <a:t>A)</a:t>
              </a: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  HP IS ROTATED 90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Times New Roman"/>
                </a:rPr>
                <a:t>0</a:t>
              </a: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 DOUNWAR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60093"/>
                  </a:solidFill>
                  <a:latin typeface="Times New Roman"/>
                </a:rPr>
                <a:t>B</a:t>
              </a: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)  PP, 90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Times New Roman"/>
                </a:rPr>
                <a:t>0</a:t>
              </a: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 IN RIGHT SIDE DIRECTIO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THIS WAY BOTH PLANES ARE BROUGHT IN THE SAME PLANE CONTAINING FP.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24"/>
          <p:cNvSpPr/>
          <p:nvPr/>
        </p:nvSpPr>
        <p:spPr>
          <a:xfrm>
            <a:off x="3364560" y="1066680"/>
            <a:ext cx="5292360" cy="337320"/>
          </a:xfrm>
          <a:prstGeom prst="rect">
            <a:avLst/>
          </a:prstGeom>
          <a:solidFill>
            <a:srgbClr val="00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TERN OF PLANES &amp; VIEWS (First Angle Meth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5"/>
          <p:cNvSpPr/>
          <p:nvPr/>
        </p:nvSpPr>
        <p:spPr>
          <a:xfrm>
            <a:off x="26668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izontal Plane (Top Pla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6"/>
          <p:cNvSpPr/>
          <p:nvPr/>
        </p:nvSpPr>
        <p:spPr>
          <a:xfrm flipH="1" flipV="1">
            <a:off x="1828800" y="26668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7"/>
          <p:cNvSpPr/>
          <p:nvPr/>
        </p:nvSpPr>
        <p:spPr>
          <a:xfrm>
            <a:off x="0" y="1522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al Plane (Vertical Pla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8"/>
          <p:cNvSpPr/>
          <p:nvPr/>
        </p:nvSpPr>
        <p:spPr>
          <a:xfrm>
            <a:off x="457200" y="45720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9"/>
          <p:cNvSpPr/>
          <p:nvPr/>
        </p:nvSpPr>
        <p:spPr>
          <a:xfrm>
            <a:off x="0" y="1143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0"/>
          <p:cNvSpPr/>
          <p:nvPr/>
        </p:nvSpPr>
        <p:spPr>
          <a:xfrm>
            <a:off x="1371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1"/>
          <p:cNvSpPr/>
          <p:nvPr/>
        </p:nvSpPr>
        <p:spPr>
          <a:xfrm>
            <a:off x="1828800" y="990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2"/>
          <p:cNvSpPr/>
          <p:nvPr/>
        </p:nvSpPr>
        <p:spPr>
          <a:xfrm>
            <a:off x="2743200" y="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THOGRAPHIC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1539720" y="1000080"/>
            <a:ext cx="60199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1027080" y="1206360"/>
            <a:ext cx="732492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636480" y="977760"/>
            <a:ext cx="794088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32767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5576760" y="304920"/>
            <a:ext cx="1040400" cy="721800"/>
            <a:chOff x="5576760" y="304920"/>
            <a:chExt cx="1040400" cy="721800"/>
          </a:xfrm>
        </p:grpSpPr>
        <p:sp>
          <p:nvSpPr>
            <p:cNvPr id="182" name="AutoShape 4"/>
            <p:cNvSpPr/>
            <p:nvPr/>
          </p:nvSpPr>
          <p:spPr>
            <a:xfrm rot="16167000">
              <a:off x="5640840" y="655200"/>
              <a:ext cx="470880" cy="268920"/>
            </a:xfrm>
            <a:prstGeom prst="leftArrow">
              <a:avLst>
                <a:gd name="adj1" fmla="val 50000"/>
                <a:gd name="adj2" fmla="val 437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5576760" y="304920"/>
              <a:ext cx="104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 T.V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6"/>
          <p:cNvGrpSpPr/>
          <p:nvPr/>
        </p:nvGrpSpPr>
        <p:grpSpPr>
          <a:xfrm>
            <a:off x="3081240" y="5253480"/>
            <a:ext cx="1050120" cy="885960"/>
            <a:chOff x="3081240" y="5253480"/>
            <a:chExt cx="1050120" cy="885960"/>
          </a:xfrm>
        </p:grpSpPr>
        <p:sp>
          <p:nvSpPr>
            <p:cNvPr id="185" name="AutoShape 7"/>
            <p:cNvSpPr/>
            <p:nvPr/>
          </p:nvSpPr>
          <p:spPr>
            <a:xfrm rot="8594400">
              <a:off x="3303000" y="5648040"/>
              <a:ext cx="829800" cy="270000"/>
            </a:xfrm>
            <a:prstGeom prst="leftArrow">
              <a:avLst>
                <a:gd name="adj1" fmla="val 50000"/>
                <a:gd name="adj2" fmla="val 768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 rot="19429800">
              <a:off x="3082680" y="5520960"/>
              <a:ext cx="10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 S.V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9"/>
          <p:cNvGrpSpPr/>
          <p:nvPr/>
        </p:nvGrpSpPr>
        <p:grpSpPr>
          <a:xfrm>
            <a:off x="7864200" y="5256720"/>
            <a:ext cx="1186200" cy="872640"/>
            <a:chOff x="7864200" y="5256720"/>
            <a:chExt cx="1186200" cy="872640"/>
          </a:xfrm>
        </p:grpSpPr>
        <p:sp>
          <p:nvSpPr>
            <p:cNvPr id="188" name="AutoShape 10"/>
            <p:cNvSpPr/>
            <p:nvPr/>
          </p:nvSpPr>
          <p:spPr>
            <a:xfrm rot="2041800">
              <a:off x="7864200" y="5577480"/>
              <a:ext cx="875520" cy="268920"/>
            </a:xfrm>
            <a:prstGeom prst="leftArrow">
              <a:avLst>
                <a:gd name="adj1" fmla="val 50000"/>
                <a:gd name="adj2" fmla="val 8139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 rot="2136600">
              <a:off x="8020080" y="5524200"/>
              <a:ext cx="102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 F.V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12"/>
          <p:cNvSpPr/>
          <p:nvPr/>
        </p:nvSpPr>
        <p:spPr>
          <a:xfrm>
            <a:off x="2819520" y="2671920"/>
            <a:ext cx="6324480" cy="3628800"/>
          </a:xfrm>
          <a:prstGeom prst="diamond">
            <a:avLst/>
          </a:prstGeom>
          <a:gradFill rotWithShape="0">
            <a:gsLst>
              <a:gs pos="0">
                <a:srgbClr val="232300"/>
              </a:gs>
              <a:gs pos="50000">
                <a:srgbClr val="cccc00"/>
              </a:gs>
              <a:gs pos="100000">
                <a:srgbClr val="232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4518000" y="2441520"/>
            <a:ext cx="2788560" cy="2883960"/>
            <a:chOff x="4518000" y="2441520"/>
            <a:chExt cx="2788560" cy="2883960"/>
          </a:xfrm>
        </p:grpSpPr>
        <p:graphicFrame>
          <p:nvGraphicFramePr>
            <p:cNvPr id="192" name="Object 14"/>
            <p:cNvGraphicFramePr/>
            <p:nvPr/>
          </p:nvGraphicFramePr>
          <p:xfrm>
            <a:off x="5211720" y="2441520"/>
            <a:ext cx="1230840" cy="23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3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1720" y="2441520"/>
                      <a:ext cx="1230840" cy="23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4" name="Group 15"/>
            <p:cNvGrpSpPr/>
            <p:nvPr/>
          </p:nvGrpSpPr>
          <p:grpSpPr>
            <a:xfrm>
              <a:off x="4518000" y="4354200"/>
              <a:ext cx="2788560" cy="971280"/>
              <a:chOff x="4518000" y="4354200"/>
              <a:chExt cx="2788560" cy="971280"/>
            </a:xfrm>
          </p:grpSpPr>
          <p:sp>
            <p:nvSpPr>
              <p:cNvPr id="195" name="AutoShape 16"/>
              <p:cNvSpPr/>
              <p:nvPr/>
            </p:nvSpPr>
            <p:spPr>
              <a:xfrm>
                <a:off x="5611680" y="4354200"/>
                <a:ext cx="1694880" cy="971280"/>
              </a:xfrm>
              <a:prstGeom prst="diamond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17"/>
              <p:cNvSpPr/>
              <p:nvPr/>
            </p:nvSpPr>
            <p:spPr>
              <a:xfrm>
                <a:off x="4518000" y="4492440"/>
                <a:ext cx="1187280" cy="681480"/>
              </a:xfrm>
              <a:prstGeom prst="diamond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Group 18"/>
          <p:cNvGrpSpPr/>
          <p:nvPr/>
        </p:nvGrpSpPr>
        <p:grpSpPr>
          <a:xfrm>
            <a:off x="6541920" y="3262320"/>
            <a:ext cx="768240" cy="2082600"/>
            <a:chOff x="6541920" y="3262320"/>
            <a:chExt cx="768240" cy="2082600"/>
          </a:xfrm>
        </p:grpSpPr>
        <p:sp>
          <p:nvSpPr>
            <p:cNvPr id="198" name="Freeform 19"/>
            <p:cNvSpPr/>
            <p:nvPr/>
          </p:nvSpPr>
          <p:spPr>
            <a:xfrm>
              <a:off x="6543360" y="3264120"/>
              <a:ext cx="766800" cy="208080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"/>
            <p:cNvSpPr/>
            <p:nvPr/>
          </p:nvSpPr>
          <p:spPr>
            <a:xfrm>
              <a:off x="6541920" y="3262320"/>
              <a:ext cx="753120" cy="20426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1"/>
          <p:cNvGrpSpPr/>
          <p:nvPr/>
        </p:nvGrpSpPr>
        <p:grpSpPr>
          <a:xfrm>
            <a:off x="4591080" y="3241800"/>
            <a:ext cx="452160" cy="1962000"/>
            <a:chOff x="4591080" y="3241800"/>
            <a:chExt cx="452160" cy="1962000"/>
          </a:xfrm>
        </p:grpSpPr>
        <p:sp>
          <p:nvSpPr>
            <p:cNvPr id="201" name="Freeform 22"/>
            <p:cNvSpPr/>
            <p:nvPr/>
          </p:nvSpPr>
          <p:spPr>
            <a:xfrm>
              <a:off x="4591080" y="3241800"/>
              <a:ext cx="449640" cy="1962000"/>
            </a:xfrm>
            <a:prstGeom prst="pie">
              <a:avLst/>
            </a:prstGeom>
            <a:solidFill>
              <a:srgbClr val="c4c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3"/>
            <p:cNvSpPr/>
            <p:nvPr/>
          </p:nvSpPr>
          <p:spPr>
            <a:xfrm>
              <a:off x="4593600" y="3241800"/>
              <a:ext cx="449640" cy="196200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24"/>
          <p:cNvGrpSpPr/>
          <p:nvPr/>
        </p:nvGrpSpPr>
        <p:grpSpPr>
          <a:xfrm>
            <a:off x="5200560" y="1881360"/>
            <a:ext cx="1200240" cy="674640"/>
            <a:chOff x="5200560" y="1881360"/>
            <a:chExt cx="1200240" cy="674640"/>
          </a:xfrm>
        </p:grpSpPr>
        <p:sp>
          <p:nvSpPr>
            <p:cNvPr id="204" name="Freeform 25"/>
            <p:cNvSpPr/>
            <p:nvPr/>
          </p:nvSpPr>
          <p:spPr>
            <a:xfrm>
              <a:off x="5200560" y="1881360"/>
              <a:ext cx="1200240" cy="674640"/>
            </a:xfrm>
            <a:prstGeom prst="pie">
              <a:avLst/>
            </a:prstGeom>
            <a:solidFill>
              <a:srgbClr val="7cc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6"/>
            <p:cNvSpPr/>
            <p:nvPr/>
          </p:nvSpPr>
          <p:spPr>
            <a:xfrm>
              <a:off x="5200560" y="1881360"/>
              <a:ext cx="1200240" cy="6746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AutoShape 27"/>
          <p:cNvSpPr/>
          <p:nvPr/>
        </p:nvSpPr>
        <p:spPr>
          <a:xfrm>
            <a:off x="3849840" y="1138320"/>
            <a:ext cx="4082760" cy="2344680"/>
          </a:xfrm>
          <a:prstGeom prst="diamond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211720" y="2120760"/>
            <a:ext cx="1199880" cy="1029960"/>
            <a:chOff x="5211720" y="2120760"/>
            <a:chExt cx="1199880" cy="1029960"/>
          </a:xfrm>
        </p:grpSpPr>
        <p:sp>
          <p:nvSpPr>
            <p:cNvPr id="208" name="Line 29"/>
            <p:cNvSpPr/>
            <p:nvPr/>
          </p:nvSpPr>
          <p:spPr>
            <a:xfrm flipV="1">
              <a:off x="5211720" y="2280240"/>
              <a:ext cx="0" cy="64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0"/>
            <p:cNvSpPr/>
            <p:nvPr/>
          </p:nvSpPr>
          <p:spPr>
            <a:xfrm flipV="1">
              <a:off x="5661720" y="252072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 flipV="1">
              <a:off x="6411600" y="21207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32"/>
          <p:cNvGrpSpPr/>
          <p:nvPr/>
        </p:nvGrpSpPr>
        <p:grpSpPr>
          <a:xfrm>
            <a:off x="4609800" y="2890800"/>
            <a:ext cx="1061640" cy="2290320"/>
            <a:chOff x="4609800" y="2890800"/>
            <a:chExt cx="1061640" cy="2290320"/>
          </a:xfrm>
        </p:grpSpPr>
        <p:sp>
          <p:nvSpPr>
            <p:cNvPr id="212" name="Line 33"/>
            <p:cNvSpPr/>
            <p:nvPr/>
          </p:nvSpPr>
          <p:spPr>
            <a:xfrm flipH="1">
              <a:off x="5050440" y="3150720"/>
              <a:ext cx="621000" cy="39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 flipH="1">
              <a:off x="4609800" y="2890800"/>
              <a:ext cx="62100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5"/>
            <p:cNvSpPr/>
            <p:nvPr/>
          </p:nvSpPr>
          <p:spPr>
            <a:xfrm flipH="1">
              <a:off x="5020560" y="4782600"/>
              <a:ext cx="621360" cy="39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36"/>
          <p:cNvGrpSpPr/>
          <p:nvPr/>
        </p:nvGrpSpPr>
        <p:grpSpPr>
          <a:xfrm>
            <a:off x="5370480" y="2720880"/>
            <a:ext cx="1941120" cy="2612880"/>
            <a:chOff x="5370480" y="2720880"/>
            <a:chExt cx="1941120" cy="2612880"/>
          </a:xfrm>
        </p:grpSpPr>
        <p:sp>
          <p:nvSpPr>
            <p:cNvPr id="216" name="Line 37"/>
            <p:cNvSpPr/>
            <p:nvPr/>
          </p:nvSpPr>
          <p:spPr>
            <a:xfrm>
              <a:off x="5610600" y="3137760"/>
              <a:ext cx="940320" cy="5637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8"/>
            <p:cNvSpPr/>
            <p:nvPr/>
          </p:nvSpPr>
          <p:spPr>
            <a:xfrm>
              <a:off x="6411240" y="2720880"/>
              <a:ext cx="900360" cy="5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9"/>
            <p:cNvSpPr/>
            <p:nvPr/>
          </p:nvSpPr>
          <p:spPr>
            <a:xfrm>
              <a:off x="5370480" y="4613040"/>
              <a:ext cx="1200600" cy="720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9" name="Object 40"/>
          <p:cNvGraphicFramePr/>
          <p:nvPr/>
        </p:nvGraphicFramePr>
        <p:xfrm>
          <a:off x="7983360" y="4302000"/>
          <a:ext cx="9604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83360" y="4302000"/>
                    <a:ext cx="960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WordArt 41"/>
          <p:cNvSpPr txBox="1"/>
          <p:nvPr/>
        </p:nvSpPr>
        <p:spPr>
          <a:xfrm>
            <a:off x="3929040" y="2521080"/>
            <a:ext cx="48276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P.P.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2" name="WordArt 42"/>
          <p:cNvSpPr txBox="1"/>
          <p:nvPr/>
        </p:nvSpPr>
        <p:spPr>
          <a:xfrm rot="21389400">
            <a:off x="7321320" y="2562120"/>
            <a:ext cx="6238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F.P.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3" name="WordArt 43"/>
          <p:cNvSpPr txBox="1"/>
          <p:nvPr/>
        </p:nvSpPr>
        <p:spPr>
          <a:xfrm rot="21389400">
            <a:off x="6794280" y="3992040"/>
            <a:ext cx="3888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.V.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24" name="WordArt 44"/>
          <p:cNvSpPr txBox="1"/>
          <p:nvPr/>
        </p:nvSpPr>
        <p:spPr>
          <a:xfrm>
            <a:off x="4660920" y="3952800"/>
            <a:ext cx="3366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S.V.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aphicFrame>
        <p:nvGraphicFramePr>
          <p:cNvPr id="225" name="Object 45"/>
          <p:cNvGraphicFramePr/>
          <p:nvPr/>
        </p:nvGraphicFramePr>
        <p:xfrm>
          <a:off x="5511960" y="1995480"/>
          <a:ext cx="56016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Object 4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11960" y="1995480"/>
                    <a:ext cx="5601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46"/>
          <p:cNvGraphicFramePr/>
          <p:nvPr/>
        </p:nvGraphicFramePr>
        <p:xfrm>
          <a:off x="5491080" y="1209600"/>
          <a:ext cx="800280" cy="53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1080" y="1209600"/>
                    <a:ext cx="800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AutoShape 47"/>
          <p:cNvSpPr/>
          <p:nvPr/>
        </p:nvSpPr>
        <p:spPr>
          <a:xfrm flipH="1" rot="18001200">
            <a:off x="4901400" y="2989440"/>
            <a:ext cx="4083120" cy="2345040"/>
          </a:xfrm>
          <a:prstGeom prst="diamond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8"/>
          <p:cNvSpPr/>
          <p:nvPr/>
        </p:nvSpPr>
        <p:spPr>
          <a:xfrm rot="3598800">
            <a:off x="2819520" y="2989800"/>
            <a:ext cx="4083120" cy="2344680"/>
          </a:xfrm>
          <a:prstGeom prst="diamond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WordArt 49"/>
          <p:cNvSpPr txBox="1"/>
          <p:nvPr/>
        </p:nvSpPr>
        <p:spPr>
          <a:xfrm rot="20587800">
            <a:off x="5887800" y="2916360"/>
            <a:ext cx="480960" cy="2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OBJECT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257400" y="990720"/>
            <a:ext cx="298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 THIS METHO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OBJECT IS ASSUMED TO B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TUATED IN THIRD QUAD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BELOW HP &amp; BEHIND OF FP.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1"/>
          <p:cNvSpPr/>
          <p:nvPr/>
        </p:nvSpPr>
        <p:spPr>
          <a:xfrm>
            <a:off x="79560" y="2057400"/>
            <a:ext cx="318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NES BEING TRANSPER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ND INBETW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SERVER &amp;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2"/>
          <p:cNvSpPr/>
          <p:nvPr/>
        </p:nvSpPr>
        <p:spPr>
          <a:xfrm>
            <a:off x="70920" y="4952880"/>
            <a:ext cx="2634480" cy="946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Tahoma"/>
              </a:rPr>
              <a:t>ACTUAL PATTER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d60093"/>
                </a:solidFill>
                <a:latin typeface="Tahoma"/>
              </a:rPr>
              <a:t>PLANES &amp; VIEW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Tahoma"/>
              </a:rPr>
              <a:t>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Tahoma"/>
              </a:rPr>
              <a:t>THIRD ANGL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3"/>
          <p:cNvSpPr/>
          <p:nvPr/>
        </p:nvSpPr>
        <p:spPr>
          <a:xfrm flipH="1" flipV="1">
            <a:off x="471240" y="3944880"/>
            <a:ext cx="969840" cy="81936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4"/>
          <p:cNvSpPr/>
          <p:nvPr/>
        </p:nvSpPr>
        <p:spPr>
          <a:xfrm flipH="1" flipV="1">
            <a:off x="1291680" y="3944880"/>
            <a:ext cx="968040" cy="819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5"/>
          <p:cNvSpPr/>
          <p:nvPr/>
        </p:nvSpPr>
        <p:spPr>
          <a:xfrm flipH="1" flipV="1">
            <a:off x="1291680" y="3124080"/>
            <a:ext cx="968040" cy="82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6"/>
          <p:cNvSpPr/>
          <p:nvPr/>
        </p:nvSpPr>
        <p:spPr>
          <a:xfrm>
            <a:off x="1598760" y="4186080"/>
            <a:ext cx="382320" cy="3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7"/>
          <p:cNvSpPr/>
          <p:nvPr/>
        </p:nvSpPr>
        <p:spPr>
          <a:xfrm>
            <a:off x="201960" y="3727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8"/>
          <p:cNvSpPr/>
          <p:nvPr/>
        </p:nvSpPr>
        <p:spPr>
          <a:xfrm>
            <a:off x="2238480" y="377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609480" y="4186080"/>
            <a:ext cx="527040" cy="32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0"/>
          <p:cNvSpPr/>
          <p:nvPr/>
        </p:nvSpPr>
        <p:spPr>
          <a:xfrm>
            <a:off x="1584360" y="3400560"/>
            <a:ext cx="384120" cy="3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1"/>
          <p:cNvSpPr/>
          <p:nvPr/>
        </p:nvSpPr>
        <p:spPr>
          <a:xfrm>
            <a:off x="1562400" y="338940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2"/>
          <p:cNvSpPr/>
          <p:nvPr/>
        </p:nvSpPr>
        <p:spPr>
          <a:xfrm>
            <a:off x="497520" y="92160"/>
            <a:ext cx="23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HIRD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3"/>
          <p:cNvSpPr/>
          <p:nvPr/>
        </p:nvSpPr>
        <p:spPr>
          <a:xfrm>
            <a:off x="611280" y="41814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S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4"/>
          <p:cNvSpPr/>
          <p:nvPr/>
        </p:nvSpPr>
        <p:spPr>
          <a:xfrm>
            <a:off x="1585800" y="4172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65"/>
          <p:cNvGrpSpPr/>
          <p:nvPr/>
        </p:nvGrpSpPr>
        <p:grpSpPr>
          <a:xfrm>
            <a:off x="8016840" y="46080"/>
            <a:ext cx="1096920" cy="182520"/>
            <a:chOff x="8016840" y="46080"/>
            <a:chExt cx="1096920" cy="182520"/>
          </a:xfrm>
        </p:grpSpPr>
        <p:sp>
          <p:nvSpPr>
            <p:cNvPr id="248" name="AutoShape 66">
              <a:hlinkClick r:id="rId9" action="ppaction://hlinksldjump"/>
            </p:cNvPr>
            <p:cNvSpPr/>
            <p:nvPr/>
          </p:nvSpPr>
          <p:spPr>
            <a:xfrm>
              <a:off x="8016840" y="46080"/>
              <a:ext cx="182520" cy="182520"/>
            </a:xfrm>
            <a:custGeom>
              <a:avLst/>
              <a:gdLst>
                <a:gd name="textAreaLeft" fmla="*/ 11520 w 182520"/>
                <a:gd name="textAreaRight" fmla="*/ 171000 w 182520"/>
                <a:gd name="textAreaTop" fmla="*/ 11520 h 182520"/>
                <a:gd name="textAreaBottom" fmla="*/ 17100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10800" y="3837"/>
                  </a:moveTo>
                  <a:lnTo>
                    <a:pt x="13376" y="6448"/>
                  </a:lnTo>
                  <a:lnTo>
                    <a:pt x="13376" y="4707"/>
                  </a:lnTo>
                  <a:lnTo>
                    <a:pt x="15152" y="4707"/>
                  </a:lnTo>
                  <a:lnTo>
                    <a:pt x="15152" y="8224"/>
                  </a:lnTo>
                  <a:lnTo>
                    <a:pt x="17763" y="10800"/>
                  </a:lnTo>
                  <a:lnTo>
                    <a:pt x="16109" y="10800"/>
                  </a:lnTo>
                  <a:lnTo>
                    <a:pt x="16109" y="17989"/>
                  </a:lnTo>
                  <a:lnTo>
                    <a:pt x="5491" y="17989"/>
                  </a:lnTo>
                  <a:lnTo>
                    <a:pt x="5491" y="10800"/>
                  </a:lnTo>
                  <a:lnTo>
                    <a:pt x="3837" y="10800"/>
                  </a:lnTo>
                  <a:close/>
                </a:path>
                <a:path fill="darkenLess" w="21600" h="21600">
                  <a:moveTo>
                    <a:pt x="13376" y="6448"/>
                  </a:moveTo>
                  <a:lnTo>
                    <a:pt x="13376" y="4707"/>
                  </a:lnTo>
                  <a:lnTo>
                    <a:pt x="15152" y="4707"/>
                  </a:lnTo>
                  <a:lnTo>
                    <a:pt x="15152" y="8224"/>
                  </a:lnTo>
                  <a:close/>
                </a:path>
                <a:path fill="darkenLess" w="21600" h="21600">
                  <a:moveTo>
                    <a:pt x="9877" y="14299"/>
                  </a:moveTo>
                  <a:lnTo>
                    <a:pt x="11723" y="14299"/>
                  </a:lnTo>
                  <a:lnTo>
                    <a:pt x="11723" y="17989"/>
                  </a:lnTo>
                  <a:lnTo>
                    <a:pt x="16109" y="17989"/>
                  </a:lnTo>
                  <a:lnTo>
                    <a:pt x="16109" y="10800"/>
                  </a:lnTo>
                  <a:lnTo>
                    <a:pt x="5491" y="10800"/>
                  </a:lnTo>
                  <a:lnTo>
                    <a:pt x="5491" y="17989"/>
                  </a:lnTo>
                  <a:lnTo>
                    <a:pt x="9877" y="17989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67">
              <a:hlinkClick r:id="" action="ppaction://hlinkshowjump?jump=previousslide"/>
            </p:cNvPr>
            <p:cNvSpPr/>
            <p:nvPr/>
          </p:nvSpPr>
          <p:spPr>
            <a:xfrm>
              <a:off x="8381880" y="46080"/>
              <a:ext cx="184320" cy="182520"/>
            </a:xfrm>
            <a:custGeom>
              <a:avLst/>
              <a:gdLst>
                <a:gd name="textAreaLeft" fmla="*/ 11520 w 184320"/>
                <a:gd name="textAreaRight" fmla="*/ 172800 w 184320"/>
                <a:gd name="textAreaTop" fmla="*/ 11520 h 182520"/>
                <a:gd name="textAreaBottom" fmla="*/ 171000 h 182520"/>
              </a:gdLst>
              <a:ahLst/>
              <a:rect l="textAreaLeft" t="textAreaTop" r="textAreaRight" b="textAreaBottom"/>
              <a:pathLst>
                <a:path w="21813" h="21600">
                  <a:moveTo>
                    <a:pt x="0" y="0"/>
                  </a:moveTo>
                  <a:lnTo>
                    <a:pt x="21813" y="0"/>
                  </a:lnTo>
                  <a:lnTo>
                    <a:pt x="21813" y="21600"/>
                  </a:lnTo>
                  <a:lnTo>
                    <a:pt x="0" y="21600"/>
                  </a:lnTo>
                  <a:close/>
                </a:path>
                <a:path fill="lightenLess" w="21813" h="21600">
                  <a:moveTo>
                    <a:pt x="0" y="0"/>
                  </a:moveTo>
                  <a:lnTo>
                    <a:pt x="21813" y="0"/>
                  </a:lnTo>
                  <a:lnTo>
                    <a:pt x="20413" y="1400"/>
                  </a:lnTo>
                  <a:lnTo>
                    <a:pt x="1400" y="1400"/>
                  </a:lnTo>
                  <a:close/>
                </a:path>
                <a:path fill="darken" w="21813" h="21600">
                  <a:moveTo>
                    <a:pt x="21813" y="0"/>
                  </a:moveTo>
                  <a:lnTo>
                    <a:pt x="21813" y="21600"/>
                  </a:lnTo>
                  <a:lnTo>
                    <a:pt x="20413" y="20200"/>
                  </a:lnTo>
                  <a:lnTo>
                    <a:pt x="20413" y="1400"/>
                  </a:lnTo>
                  <a:close/>
                </a:path>
                <a:path fill="darkenLess" w="21813" h="21600">
                  <a:moveTo>
                    <a:pt x="2181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413" y="20200"/>
                  </a:lnTo>
                  <a:close/>
                </a:path>
                <a:path fill="lighten" w="2181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813" h="21600">
                  <a:moveTo>
                    <a:pt x="3900" y="10800"/>
                  </a:moveTo>
                  <a:lnTo>
                    <a:pt x="17913" y="3794"/>
                  </a:lnTo>
                  <a:lnTo>
                    <a:pt x="17913" y="1780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68">
              <a:hlinkClick r:id="" action="ppaction://hlinkshowjump?jump=nextslide"/>
            </p:cNvPr>
            <p:cNvSpPr/>
            <p:nvPr/>
          </p:nvSpPr>
          <p:spPr>
            <a:xfrm>
              <a:off x="8566200" y="46080"/>
              <a:ext cx="182520" cy="182520"/>
            </a:xfrm>
            <a:custGeom>
              <a:avLst/>
              <a:gdLst>
                <a:gd name="textAreaLeft" fmla="*/ 11520 w 182520"/>
                <a:gd name="textAreaRight" fmla="*/ 171000 w 182520"/>
                <a:gd name="textAreaTop" fmla="*/ 11520 h 182520"/>
                <a:gd name="textAreaBottom" fmla="*/ 17100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69">
              <a:hlinkClick r:id="" action="ppaction://hlinkshowjump?jump=firstslide"/>
            </p:cNvPr>
            <p:cNvSpPr/>
            <p:nvPr/>
          </p:nvSpPr>
          <p:spPr>
            <a:xfrm>
              <a:off x="8199360" y="46080"/>
              <a:ext cx="182520" cy="182520"/>
            </a:xfrm>
            <a:custGeom>
              <a:avLst/>
              <a:gdLst>
                <a:gd name="textAreaLeft" fmla="*/ 11520 w 182520"/>
                <a:gd name="textAreaRight" fmla="*/ 171000 w 182520"/>
                <a:gd name="textAreaTop" fmla="*/ 11520 h 182520"/>
                <a:gd name="textAreaBottom" fmla="*/ 17100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7301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5456" y="3794"/>
                  </a:lnTo>
                  <a:lnTo>
                    <a:pt x="5456" y="17806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70">
              <a:hlinkClick r:id="" action="ppaction://hlinkshowjump?jump=lastslide"/>
            </p:cNvPr>
            <p:cNvSpPr/>
            <p:nvPr/>
          </p:nvSpPr>
          <p:spPr>
            <a:xfrm>
              <a:off x="8748720" y="46080"/>
              <a:ext cx="182520" cy="182520"/>
            </a:xfrm>
            <a:custGeom>
              <a:avLst/>
              <a:gdLst>
                <a:gd name="textAreaLeft" fmla="*/ 11520 w 182520"/>
                <a:gd name="textAreaRight" fmla="*/ 171000 w 182520"/>
                <a:gd name="textAreaTop" fmla="*/ 11520 h 182520"/>
                <a:gd name="textAreaBottom" fmla="*/ 17100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14299" y="10800"/>
                  </a:moveTo>
                  <a:lnTo>
                    <a:pt x="3794" y="17806"/>
                  </a:lnTo>
                  <a:lnTo>
                    <a:pt x="3794" y="3794"/>
                  </a:lnTo>
                  <a:close/>
                </a:path>
                <a:path fill="darken" w="21600" h="21600">
                  <a:moveTo>
                    <a:pt x="16144" y="3794"/>
                  </a:moveTo>
                  <a:lnTo>
                    <a:pt x="16144" y="17806"/>
                  </a:lnTo>
                  <a:lnTo>
                    <a:pt x="17806" y="17806"/>
                  </a:lnTo>
                  <a:lnTo>
                    <a:pt x="17806" y="3794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71">
              <a:hlinkClick r:id="" action="ppaction://hlinkshowjump?jump=endshow"/>
            </p:cNvPr>
            <p:cNvSpPr/>
            <p:nvPr/>
          </p:nvSpPr>
          <p:spPr>
            <a:xfrm>
              <a:off x="8931240" y="46080"/>
              <a:ext cx="182520" cy="182520"/>
            </a:xfrm>
            <a:custGeom>
              <a:avLst/>
              <a:gdLst>
                <a:gd name="textAreaLeft" fmla="*/ 11520 w 182520"/>
                <a:gd name="textAreaRight" fmla="*/ 171000 w 182520"/>
                <a:gd name="textAreaTop" fmla="*/ 11520 h 182520"/>
                <a:gd name="textAreaBottom" fmla="*/ 17100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1557360" y="762120"/>
            <a:ext cx="59259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2108160" y="838080"/>
            <a:ext cx="5159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5" descr=""/>
          <p:cNvPicPr/>
          <p:nvPr/>
        </p:nvPicPr>
        <p:blipFill>
          <a:blip r:embed="rId1"/>
          <a:stretch/>
        </p:blipFill>
        <p:spPr>
          <a:xfrm>
            <a:off x="1440" y="1538280"/>
            <a:ext cx="5303880" cy="531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0" descr=""/>
          <p:cNvPicPr/>
          <p:nvPr/>
        </p:nvPicPr>
        <p:blipFill>
          <a:blip r:embed="rId2"/>
          <a:stretch/>
        </p:blipFill>
        <p:spPr>
          <a:xfrm>
            <a:off x="5178600" y="1028880"/>
            <a:ext cx="39654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0" y="1473120"/>
            <a:ext cx="4495680" cy="4337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4648320" y="2033640"/>
            <a:ext cx="433224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1765440"/>
            <a:ext cx="4038480" cy="4194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4648320" y="2004840"/>
            <a:ext cx="4038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457200" y="2033640"/>
            <a:ext cx="4038480" cy="3657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2"/>
          <a:stretch/>
        </p:blipFill>
        <p:spPr>
          <a:xfrm>
            <a:off x="4648320" y="1765440"/>
            <a:ext cx="40384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03:25:45Z</dcterms:created>
  <dc:creator>DRDARPE</dc:creator>
  <dc:description/>
  <dc:language>en-US</dc:language>
  <cp:lastModifiedBy>Priya</cp:lastModifiedBy>
  <dcterms:modified xsi:type="dcterms:W3CDTF">2015-09-23T10:59:06Z</dcterms:modified>
  <cp:revision>12</cp:revision>
  <dc:subject/>
  <dc:title>Slide 1</dc:title>
</cp:coreProperties>
</file>