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27.wmf" ContentType="image/x-wmf"/>
  <Override PartName="/ppt/media/image23.png" ContentType="image/png"/>
  <Override PartName="/ppt/media/image22.png" ContentType="image/png"/>
  <Override PartName="/ppt/media/image20.wmf" ContentType="image/x-wmf"/>
  <Override PartName="/ppt/media/image4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media/image16.wmf" ContentType="image/x-wmf"/>
  <Override PartName="/ppt/media/image8.png" ContentType="image/png"/>
  <Override PartName="/ppt/media/image9.wmf" ContentType="image/x-wmf"/>
  <Override PartName="/ppt/media/image13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25.wmf" ContentType="image/x-wmf"/>
  <Override PartName="/ppt/media/image32.wmf" ContentType="image/x-wmf"/>
  <Override PartName="/ppt/media/image29.png" ContentType="image/png"/>
  <Override PartName="/ppt/media/image2.wmf" ContentType="image/x-wmf"/>
  <Override PartName="/ppt/media/image28.png" ContentType="image/png"/>
  <Override PartName="/ppt/media/image1.wmf" ContentType="image/x-wmf"/>
  <Override PartName="/ppt/media/image24.wmf" ContentType="image/x-wmf"/>
  <Override PartName="/ppt/media/image15.png" ContentType="image/png"/>
  <Override PartName="/ppt/media/image17.wmf" ContentType="image/x-wmf"/>
  <Override PartName="/ppt/media/image19.wmf" ContentType="image/x-wmf"/>
  <Override PartName="/ppt/media/image21.wmf" ContentType="image/x-wmf"/>
  <Override PartName="/ppt/media/image1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6B10-B36E-41CB-83B1-BE2083373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D11F-35B0-47D0-A01D-8CDE2F85A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9CCD-067B-4303-B1B9-E20FD4A47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7D60-5168-4875-8A90-0F88D8F27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F17F-1526-4BAA-885E-10A120CCF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7EF0-CF7E-42B8-9850-23E82EF40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D4A4-CEF7-42A4-A98B-4E84556E7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9B08-3CFF-4669-B91F-A03FB0B34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CB72-B3C3-4748-AF3F-A3ED3F29E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2DB4-CAC1-4A42-87ED-3D717FAF2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5FF5-A0E1-48C0-97F5-D193D3489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78E9-2F26-408E-9847-1E452CFB4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4B8F2-A252-4683-A56A-7CD8DA5B11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.wmf"/><Relationship Id="rId1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slide" Target="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thographic proj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4" descr=""/>
          <p:cNvPicPr/>
          <p:nvPr/>
        </p:nvPicPr>
        <p:blipFill>
          <a:blip r:embed="rId1"/>
          <a:stretch/>
        </p:blipFill>
        <p:spPr>
          <a:xfrm>
            <a:off x="2075040" y="1600200"/>
            <a:ext cx="4992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4" descr=""/>
          <p:cNvPicPr/>
          <p:nvPr/>
        </p:nvPicPr>
        <p:blipFill>
          <a:blip r:embed="rId1"/>
          <a:stretch/>
        </p:blipFill>
        <p:spPr>
          <a:xfrm>
            <a:off x="457200" y="1803240"/>
            <a:ext cx="4038480" cy="411804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7" descr=""/>
          <p:cNvPicPr/>
          <p:nvPr/>
        </p:nvPicPr>
        <p:blipFill>
          <a:blip r:embed="rId2"/>
          <a:stretch/>
        </p:blipFill>
        <p:spPr>
          <a:xfrm>
            <a:off x="4648320" y="2193840"/>
            <a:ext cx="4038480" cy="3338640"/>
          </a:xfrm>
          <a:prstGeom prst="rect">
            <a:avLst/>
          </a:prstGeom>
          <a:ln w="0">
            <a:noFill/>
          </a:ln>
        </p:spPr>
      </p:pic>
      <p:grpSp>
        <p:nvGrpSpPr>
          <p:cNvPr id="275" name="Group 14"/>
          <p:cNvGrpSpPr/>
          <p:nvPr/>
        </p:nvGrpSpPr>
        <p:grpSpPr>
          <a:xfrm>
            <a:off x="3276720" y="1968480"/>
            <a:ext cx="2616120" cy="1193760"/>
            <a:chOff x="3276720" y="1968480"/>
            <a:chExt cx="2616120" cy="1193760"/>
          </a:xfrm>
        </p:grpSpPr>
        <p:sp>
          <p:nvSpPr>
            <p:cNvPr id="276" name="Line 10"/>
            <p:cNvSpPr/>
            <p:nvPr/>
          </p:nvSpPr>
          <p:spPr>
            <a:xfrm flipH="1">
              <a:off x="3276720" y="1968480"/>
              <a:ext cx="1295280" cy="927000"/>
            </a:xfrm>
            <a:prstGeom prst="line">
              <a:avLst/>
            </a:prstGeom>
            <a:ln w="93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Line 11"/>
            <p:cNvSpPr/>
            <p:nvPr/>
          </p:nvSpPr>
          <p:spPr>
            <a:xfrm flipH="1">
              <a:off x="3606840" y="1994040"/>
              <a:ext cx="952560" cy="1041120"/>
            </a:xfrm>
            <a:prstGeom prst="line">
              <a:avLst/>
            </a:prstGeom>
            <a:ln w="93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Line 12"/>
            <p:cNvSpPr/>
            <p:nvPr/>
          </p:nvSpPr>
          <p:spPr>
            <a:xfrm flipH="1">
              <a:off x="3873240" y="1968480"/>
              <a:ext cx="711000" cy="1193760"/>
            </a:xfrm>
            <a:prstGeom prst="line">
              <a:avLst/>
            </a:prstGeom>
            <a:ln w="93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Line 13"/>
            <p:cNvSpPr/>
            <p:nvPr/>
          </p:nvSpPr>
          <p:spPr>
            <a:xfrm>
              <a:off x="4559400" y="1981080"/>
              <a:ext cx="1333440" cy="1092240"/>
            </a:xfrm>
            <a:prstGeom prst="line">
              <a:avLst/>
            </a:prstGeom>
            <a:ln w="93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4" descr=""/>
          <p:cNvPicPr/>
          <p:nvPr/>
        </p:nvPicPr>
        <p:blipFill>
          <a:blip r:embed="rId1"/>
          <a:stretch/>
        </p:blipFill>
        <p:spPr>
          <a:xfrm>
            <a:off x="457200" y="1760400"/>
            <a:ext cx="4038480" cy="420552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7" descr=""/>
          <p:cNvPicPr/>
          <p:nvPr/>
        </p:nvPicPr>
        <p:blipFill>
          <a:blip r:embed="rId2"/>
          <a:stretch/>
        </p:blipFill>
        <p:spPr>
          <a:xfrm>
            <a:off x="4668840" y="1600200"/>
            <a:ext cx="39974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4" descr=""/>
          <p:cNvPicPr/>
          <p:nvPr/>
        </p:nvPicPr>
        <p:blipFill>
          <a:blip r:embed="rId1"/>
          <a:stretch/>
        </p:blipFill>
        <p:spPr>
          <a:xfrm>
            <a:off x="3733920" y="1600200"/>
            <a:ext cx="5186160" cy="525780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7" descr=""/>
          <p:cNvPicPr/>
          <p:nvPr/>
        </p:nvPicPr>
        <p:blipFill>
          <a:blip r:embed="rId2"/>
          <a:stretch/>
        </p:blipFill>
        <p:spPr>
          <a:xfrm>
            <a:off x="0" y="1523880"/>
            <a:ext cx="358452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Picture 4" descr=""/>
          <p:cNvPicPr/>
          <p:nvPr/>
        </p:nvPicPr>
        <p:blipFill>
          <a:blip r:embed="rId1"/>
          <a:stretch/>
        </p:blipFill>
        <p:spPr>
          <a:xfrm>
            <a:off x="152280" y="1757520"/>
            <a:ext cx="4508640" cy="419076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12" descr=""/>
          <p:cNvPicPr/>
          <p:nvPr/>
        </p:nvPicPr>
        <p:blipFill>
          <a:blip r:embed="rId2"/>
          <a:stretch/>
        </p:blipFill>
        <p:spPr>
          <a:xfrm>
            <a:off x="4648320" y="1717560"/>
            <a:ext cx="4038480" cy="42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4" descr=""/>
          <p:cNvPicPr/>
          <p:nvPr/>
        </p:nvPicPr>
        <p:blipFill>
          <a:blip r:embed="rId1"/>
          <a:stretch/>
        </p:blipFill>
        <p:spPr>
          <a:xfrm>
            <a:off x="3886200" y="1569960"/>
            <a:ext cx="50022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5" descr=""/>
          <p:cNvPicPr/>
          <p:nvPr/>
        </p:nvPicPr>
        <p:blipFill>
          <a:blip r:embed="rId1"/>
          <a:stretch/>
        </p:blipFill>
        <p:spPr>
          <a:xfrm>
            <a:off x="155520" y="1512720"/>
            <a:ext cx="4792680" cy="435960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4" descr=""/>
          <p:cNvPicPr/>
          <p:nvPr/>
        </p:nvPicPr>
        <p:blipFill>
          <a:blip r:embed="rId2"/>
          <a:stretch/>
        </p:blipFill>
        <p:spPr>
          <a:xfrm>
            <a:off x="4714920" y="1739880"/>
            <a:ext cx="4238640" cy="38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4" descr=""/>
          <p:cNvPicPr/>
          <p:nvPr/>
        </p:nvPicPr>
        <p:blipFill>
          <a:blip r:embed="rId1"/>
          <a:stretch/>
        </p:blipFill>
        <p:spPr>
          <a:xfrm>
            <a:off x="1959120" y="1054080"/>
            <a:ext cx="552276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4" descr=""/>
          <p:cNvPicPr/>
          <p:nvPr/>
        </p:nvPicPr>
        <p:blipFill>
          <a:blip r:embed="rId1"/>
          <a:stretch/>
        </p:blipFill>
        <p:spPr>
          <a:xfrm>
            <a:off x="961920" y="787320"/>
            <a:ext cx="6899400" cy="588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4" descr=""/>
          <p:cNvPicPr/>
          <p:nvPr/>
        </p:nvPicPr>
        <p:blipFill>
          <a:blip r:embed="rId1"/>
          <a:stretch/>
        </p:blipFill>
        <p:spPr>
          <a:xfrm>
            <a:off x="1068480" y="698400"/>
            <a:ext cx="6696000" cy="605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2"/>
          <p:cNvGrpSpPr/>
          <p:nvPr/>
        </p:nvGrpSpPr>
        <p:grpSpPr>
          <a:xfrm>
            <a:off x="6629400" y="3848040"/>
            <a:ext cx="2133360" cy="1955520"/>
            <a:chOff x="6629400" y="3848040"/>
            <a:chExt cx="2133360" cy="1955520"/>
          </a:xfrm>
        </p:grpSpPr>
        <p:sp>
          <p:nvSpPr>
            <p:cNvPr id="44" name="Rectangle 3"/>
            <p:cNvSpPr/>
            <p:nvPr/>
          </p:nvSpPr>
          <p:spPr>
            <a:xfrm>
              <a:off x="7607160" y="3848040"/>
              <a:ext cx="1155600" cy="977400"/>
            </a:xfrm>
            <a:prstGeom prst="rect">
              <a:avLst/>
            </a:prstGeom>
            <a:solidFill>
              <a:srgbClr val="cc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4"/>
            <p:cNvSpPr/>
            <p:nvPr/>
          </p:nvSpPr>
          <p:spPr>
            <a:xfrm>
              <a:off x="6629400" y="3848040"/>
              <a:ext cx="1155240" cy="97740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Rectangle 5"/>
            <p:cNvSpPr/>
            <p:nvPr/>
          </p:nvSpPr>
          <p:spPr>
            <a:xfrm>
              <a:off x="6629400" y="4825440"/>
              <a:ext cx="1155240" cy="9781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Rectangle 6"/>
          <p:cNvSpPr/>
          <p:nvPr/>
        </p:nvSpPr>
        <p:spPr>
          <a:xfrm>
            <a:off x="7010280" y="4076640"/>
            <a:ext cx="45720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7"/>
          <p:cNvGrpSpPr/>
          <p:nvPr/>
        </p:nvGrpSpPr>
        <p:grpSpPr>
          <a:xfrm>
            <a:off x="267120" y="1674720"/>
            <a:ext cx="1989360" cy="1558800"/>
            <a:chOff x="267120" y="1674720"/>
            <a:chExt cx="1989360" cy="1558800"/>
          </a:xfrm>
        </p:grpSpPr>
        <p:sp>
          <p:nvSpPr>
            <p:cNvPr id="49" name="AutoShape 8"/>
            <p:cNvSpPr/>
            <p:nvPr/>
          </p:nvSpPr>
          <p:spPr>
            <a:xfrm flipH="1" rot="9242400">
              <a:off x="364680" y="2023560"/>
              <a:ext cx="1793880" cy="860400"/>
            </a:xfrm>
            <a:prstGeom prst="parallelogram">
              <a:avLst>
                <a:gd name="adj" fmla="val 71544"/>
              </a:avLst>
            </a:prstGeom>
            <a:solidFill>
              <a:srgbClr val="99ccff"/>
            </a:solidFill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50" name="Object 9"/>
            <p:cNvGraphicFramePr/>
            <p:nvPr/>
          </p:nvGraphicFramePr>
          <p:xfrm>
            <a:off x="1763640" y="2400480"/>
            <a:ext cx="328320" cy="157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1" name="Object 9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763640" y="2400480"/>
                      <a:ext cx="328320" cy="15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52" name="Group 10"/>
          <p:cNvGrpSpPr/>
          <p:nvPr/>
        </p:nvGrpSpPr>
        <p:grpSpPr>
          <a:xfrm>
            <a:off x="-92520" y="1050840"/>
            <a:ext cx="1755000" cy="1411920"/>
            <a:chOff x="-92520" y="1050840"/>
            <a:chExt cx="1755000" cy="1411920"/>
          </a:xfrm>
        </p:grpSpPr>
        <p:sp>
          <p:nvSpPr>
            <p:cNvPr id="53" name="AutoShape 11"/>
            <p:cNvSpPr/>
            <p:nvPr/>
          </p:nvSpPr>
          <p:spPr>
            <a:xfrm rot="19980000">
              <a:off x="0" y="1364400"/>
              <a:ext cx="1569960" cy="784800"/>
            </a:xfrm>
            <a:prstGeom prst="parallelogram">
              <a:avLst>
                <a:gd name="adj" fmla="val 50937"/>
              </a:avLst>
            </a:prstGeom>
            <a:solidFill>
              <a:srgbClr val="0099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54" name="Object 12"/>
            <p:cNvGraphicFramePr/>
            <p:nvPr/>
          </p:nvGraphicFramePr>
          <p:xfrm>
            <a:off x="1074600" y="1108080"/>
            <a:ext cx="205560" cy="2484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5" name="Object 12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074600" y="1108080"/>
                      <a:ext cx="205560" cy="248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56" name="Group 13"/>
          <p:cNvGrpSpPr/>
          <p:nvPr/>
        </p:nvGrpSpPr>
        <p:grpSpPr>
          <a:xfrm>
            <a:off x="1027800" y="1044720"/>
            <a:ext cx="1725480" cy="1388880"/>
            <a:chOff x="1027800" y="1044720"/>
            <a:chExt cx="1725480" cy="1388880"/>
          </a:xfrm>
        </p:grpSpPr>
        <p:sp>
          <p:nvSpPr>
            <p:cNvPr id="57" name="AutoShape 14"/>
            <p:cNvSpPr/>
            <p:nvPr/>
          </p:nvSpPr>
          <p:spPr>
            <a:xfrm flipV="1" rot="1620000">
              <a:off x="1118880" y="1352880"/>
              <a:ext cx="1542960" cy="772560"/>
            </a:xfrm>
            <a:prstGeom prst="parallelogram">
              <a:avLst>
                <a:gd name="adj" fmla="val 50855"/>
              </a:avLst>
            </a:prstGeom>
            <a:solidFill>
              <a:srgbClr val="ccff33"/>
            </a:solidFill>
            <a:ln w="2844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58" name="Object 15"/>
            <p:cNvGraphicFramePr/>
            <p:nvPr/>
          </p:nvGraphicFramePr>
          <p:xfrm>
            <a:off x="1471680" y="1262160"/>
            <a:ext cx="793440" cy="5090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59" name="Object 15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471680" y="1262160"/>
                      <a:ext cx="793440" cy="509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60" name="Text Box 16"/>
          <p:cNvSpPr/>
          <p:nvPr/>
        </p:nvSpPr>
        <p:spPr>
          <a:xfrm rot="21105600">
            <a:off x="12600" y="238716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7"/>
          <p:cNvSpPr/>
          <p:nvPr/>
        </p:nvSpPr>
        <p:spPr>
          <a:xfrm rot="21105600">
            <a:off x="1303200" y="172224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8"/>
          <p:cNvSpPr/>
          <p:nvPr/>
        </p:nvSpPr>
        <p:spPr>
          <a:xfrm flipH="1" flipV="1">
            <a:off x="777600" y="1749600"/>
            <a:ext cx="639720" cy="3204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rc 19"/>
          <p:cNvSpPr/>
          <p:nvPr/>
        </p:nvSpPr>
        <p:spPr>
          <a:xfrm rot="5866800">
            <a:off x="264600" y="2903040"/>
            <a:ext cx="897120" cy="897120"/>
          </a:xfrm>
          <a:prstGeom prst="pie">
            <a:avLst/>
          </a:prstGeom>
          <a:noFill/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rc 20"/>
          <p:cNvSpPr/>
          <p:nvPr/>
        </p:nvSpPr>
        <p:spPr>
          <a:xfrm rot="2385000">
            <a:off x="1785600" y="576360"/>
            <a:ext cx="896760" cy="846000"/>
          </a:xfrm>
          <a:prstGeom prst="pie">
            <a:avLst/>
          </a:pr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21"/>
          <p:cNvSpPr/>
          <p:nvPr/>
        </p:nvSpPr>
        <p:spPr>
          <a:xfrm>
            <a:off x="264960" y="251784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22"/>
          <p:cNvSpPr/>
          <p:nvPr/>
        </p:nvSpPr>
        <p:spPr>
          <a:xfrm flipV="1">
            <a:off x="1225440" y="571680"/>
            <a:ext cx="1217880" cy="51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23"/>
          <p:cNvSpPr/>
          <p:nvPr/>
        </p:nvSpPr>
        <p:spPr>
          <a:xfrm>
            <a:off x="1225440" y="2646360"/>
            <a:ext cx="0" cy="257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 flipV="1">
            <a:off x="1828800" y="1714320"/>
            <a:ext cx="255600" cy="128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Group 25"/>
          <p:cNvGrpSpPr/>
          <p:nvPr/>
        </p:nvGrpSpPr>
        <p:grpSpPr>
          <a:xfrm>
            <a:off x="364320" y="3879360"/>
            <a:ext cx="2774880" cy="2316600"/>
            <a:chOff x="364320" y="3879360"/>
            <a:chExt cx="2774880" cy="2316600"/>
          </a:xfrm>
        </p:grpSpPr>
        <p:sp>
          <p:nvSpPr>
            <p:cNvPr id="70" name="AutoShape 26"/>
            <p:cNvSpPr/>
            <p:nvPr/>
          </p:nvSpPr>
          <p:spPr>
            <a:xfrm rot="19980000">
              <a:off x="457200" y="5093640"/>
              <a:ext cx="1574640" cy="787320"/>
            </a:xfrm>
            <a:prstGeom prst="parallelogram">
              <a:avLst>
                <a:gd name="adj" fmla="val 50926"/>
              </a:avLst>
            </a:prstGeom>
            <a:solidFill>
              <a:srgbClr val="99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" name="Group 27"/>
            <p:cNvGrpSpPr/>
            <p:nvPr/>
          </p:nvGrpSpPr>
          <p:grpSpPr>
            <a:xfrm>
              <a:off x="364320" y="3879360"/>
              <a:ext cx="2774880" cy="1970640"/>
              <a:chOff x="364320" y="3879360"/>
              <a:chExt cx="2774880" cy="1970640"/>
            </a:xfrm>
          </p:grpSpPr>
          <p:grpSp>
            <p:nvGrpSpPr>
              <p:cNvPr id="72" name="Group 28"/>
              <p:cNvGrpSpPr/>
              <p:nvPr/>
            </p:nvGrpSpPr>
            <p:grpSpPr>
              <a:xfrm>
                <a:off x="364320" y="3895200"/>
                <a:ext cx="1760400" cy="1416600"/>
                <a:chOff x="364320" y="3895200"/>
                <a:chExt cx="1760400" cy="1416600"/>
              </a:xfrm>
            </p:grpSpPr>
            <p:sp>
              <p:nvSpPr>
                <p:cNvPr id="73" name="AutoShape 29"/>
                <p:cNvSpPr/>
                <p:nvPr/>
              </p:nvSpPr>
              <p:spPr>
                <a:xfrm rot="19980000">
                  <a:off x="457200" y="4209480"/>
                  <a:ext cx="1574640" cy="787320"/>
                </a:xfrm>
                <a:prstGeom prst="parallelogram">
                  <a:avLst>
                    <a:gd name="adj" fmla="val 50926"/>
                  </a:avLst>
                </a:prstGeom>
                <a:solidFill>
                  <a:srgbClr val="009999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74" name="Object 30"/>
                <p:cNvGraphicFramePr/>
                <p:nvPr/>
              </p:nvGraphicFramePr>
              <p:xfrm>
                <a:off x="1535040" y="3952800"/>
                <a:ext cx="205920" cy="249120"/>
              </p:xfrm>
              <a:graphic>
                <a:graphicData uri="http://schemas.openxmlformats.org/presentationml/2006/ole">
                  <p:oleObj r:id="rId7" spid="">
                    <p:embed/>
                    <p:pic>
                      <p:nvPicPr>
                        <p:cNvPr id="75" name="Object 30" descr=""/>
                        <p:cNvPicPr/>
                        <p:nvPr/>
                      </p:nvPicPr>
                      <p:blipFill>
                        <a:blip r:embed="rId8"/>
                        <a:stretch/>
                      </p:blipFill>
                      <p:spPr>
                        <a:xfrm>
                          <a:off x="1535040" y="3952800"/>
                          <a:ext cx="205920" cy="2491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pSp>
            <p:nvGrpSpPr>
              <p:cNvPr id="76" name="Group 31"/>
              <p:cNvGrpSpPr/>
              <p:nvPr/>
            </p:nvGrpSpPr>
            <p:grpSpPr>
              <a:xfrm>
                <a:off x="1410120" y="3879360"/>
                <a:ext cx="1729080" cy="1391040"/>
                <a:chOff x="1410120" y="3879360"/>
                <a:chExt cx="1729080" cy="1391040"/>
              </a:xfrm>
            </p:grpSpPr>
            <p:sp>
              <p:nvSpPr>
                <p:cNvPr id="77" name="AutoShape 32"/>
                <p:cNvSpPr/>
                <p:nvPr/>
              </p:nvSpPr>
              <p:spPr>
                <a:xfrm flipV="1" rot="1620000">
                  <a:off x="1501200" y="4188240"/>
                  <a:ext cx="1546560" cy="773280"/>
                </a:xfrm>
                <a:prstGeom prst="parallelogram">
                  <a:avLst>
                    <a:gd name="adj" fmla="val 50926"/>
                  </a:avLst>
                </a:prstGeom>
                <a:solidFill>
                  <a:srgbClr val="ccff33"/>
                </a:solidFill>
                <a:ln w="28440">
                  <a:solidFill>
                    <a:srgbClr val="d60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78" name="Object 33"/>
                <p:cNvGraphicFramePr/>
                <p:nvPr/>
              </p:nvGraphicFramePr>
              <p:xfrm>
                <a:off x="1854360" y="4097520"/>
                <a:ext cx="795240" cy="509760"/>
              </p:xfrm>
              <a:graphic>
                <a:graphicData uri="http://schemas.openxmlformats.org/presentationml/2006/ole">
                  <p:oleObj r:id="rId9" spid="">
                    <p:embed/>
                    <p:pic>
                      <p:nvPicPr>
                        <p:cNvPr id="79" name="Object 33" descr=""/>
                        <p:cNvPicPr/>
                        <p:nvPr/>
                      </p:nvPicPr>
                      <p:blipFill>
                        <a:blip r:embed="rId10"/>
                        <a:stretch/>
                      </p:blipFill>
                      <p:spPr>
                        <a:xfrm>
                          <a:off x="1854360" y="4097520"/>
                          <a:ext cx="795240" cy="5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sp>
            <p:nvSpPr>
              <p:cNvPr id="80" name="Line 34"/>
              <p:cNvSpPr/>
              <p:nvPr/>
            </p:nvSpPr>
            <p:spPr>
              <a:xfrm flipH="1" flipV="1">
                <a:off x="2083320" y="5085720"/>
                <a:ext cx="642600" cy="321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oval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" name="Group 35"/>
              <p:cNvGrpSpPr/>
              <p:nvPr/>
            </p:nvGrpSpPr>
            <p:grpSpPr>
              <a:xfrm>
                <a:off x="1421280" y="5318640"/>
                <a:ext cx="307440" cy="531360"/>
                <a:chOff x="1421280" y="5318640"/>
                <a:chExt cx="307440" cy="531360"/>
              </a:xfrm>
            </p:grpSpPr>
            <p:sp>
              <p:nvSpPr>
                <p:cNvPr id="82" name="Freeform 36"/>
                <p:cNvSpPr/>
                <p:nvPr/>
              </p:nvSpPr>
              <p:spPr>
                <a:xfrm>
                  <a:off x="1481040" y="5318640"/>
                  <a:ext cx="15480" cy="40320"/>
                </a:xfrm>
                <a:prstGeom prst="pie">
                  <a:avLst/>
                </a:prstGeom>
                <a:solidFill>
                  <a:srgbClr val="1f1a1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Freeform 37"/>
                <p:cNvSpPr/>
                <p:nvPr/>
              </p:nvSpPr>
              <p:spPr>
                <a:xfrm>
                  <a:off x="1425960" y="5590800"/>
                  <a:ext cx="109800" cy="250920"/>
                </a:xfrm>
                <a:prstGeom prst="pie">
                  <a:avLst/>
                </a:prstGeom>
                <a:solidFill>
                  <a:srgbClr val="1f1a1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Freeform 38"/>
                <p:cNvSpPr/>
                <p:nvPr/>
              </p:nvSpPr>
              <p:spPr>
                <a:xfrm>
                  <a:off x="1573200" y="5685120"/>
                  <a:ext cx="15480" cy="44280"/>
                </a:xfrm>
                <a:prstGeom prst="pie">
                  <a:avLst/>
                </a:prstGeom>
                <a:solidFill>
                  <a:srgbClr val="1f1a1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Freeform 39"/>
                <p:cNvSpPr/>
                <p:nvPr/>
              </p:nvSpPr>
              <p:spPr>
                <a:xfrm>
                  <a:off x="1626120" y="5471280"/>
                  <a:ext cx="96840" cy="216000"/>
                </a:xfrm>
                <a:prstGeom prst="pie">
                  <a:avLst/>
                </a:prstGeom>
                <a:solidFill>
                  <a:srgbClr val="1f1a1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Freeform 40"/>
                <p:cNvSpPr/>
                <p:nvPr/>
              </p:nvSpPr>
              <p:spPr>
                <a:xfrm>
                  <a:off x="1703880" y="5586120"/>
                  <a:ext cx="16560" cy="41760"/>
                </a:xfrm>
                <a:prstGeom prst="pie">
                  <a:avLst/>
                </a:prstGeom>
                <a:solidFill>
                  <a:srgbClr val="1f1a1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Freeform 41"/>
                <p:cNvSpPr/>
                <p:nvPr/>
              </p:nvSpPr>
              <p:spPr>
                <a:xfrm>
                  <a:off x="1421280" y="5582520"/>
                  <a:ext cx="119520" cy="267480"/>
                </a:xfrm>
                <a:prstGeom prst="pie">
                  <a:avLst/>
                </a:prstGeom>
                <a:solidFill>
                  <a:srgbClr val="1f1a1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Freeform 42"/>
                <p:cNvSpPr/>
                <p:nvPr/>
              </p:nvSpPr>
              <p:spPr>
                <a:xfrm>
                  <a:off x="1568520" y="5675760"/>
                  <a:ext cx="24840" cy="62280"/>
                </a:xfrm>
                <a:prstGeom prst="pie">
                  <a:avLst/>
                </a:prstGeom>
                <a:solidFill>
                  <a:srgbClr val="1f1a1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Freeform 43"/>
                <p:cNvSpPr/>
                <p:nvPr/>
              </p:nvSpPr>
              <p:spPr>
                <a:xfrm>
                  <a:off x="1621440" y="5467680"/>
                  <a:ext cx="107280" cy="229320"/>
                </a:xfrm>
                <a:prstGeom prst="pie">
                  <a:avLst/>
                </a:prstGeom>
                <a:solidFill>
                  <a:srgbClr val="1f1a1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Freeform 44"/>
                <p:cNvSpPr/>
                <p:nvPr/>
              </p:nvSpPr>
              <p:spPr>
                <a:xfrm>
                  <a:off x="1699200" y="5575320"/>
                  <a:ext cx="25200" cy="61920"/>
                </a:xfrm>
                <a:prstGeom prst="pie">
                  <a:avLst/>
                </a:prstGeom>
                <a:solidFill>
                  <a:srgbClr val="1f1a1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1" name="Group 45"/>
          <p:cNvGrpSpPr/>
          <p:nvPr/>
        </p:nvGrpSpPr>
        <p:grpSpPr>
          <a:xfrm>
            <a:off x="3417840" y="3567600"/>
            <a:ext cx="2384280" cy="2544480"/>
            <a:chOff x="3417840" y="3567600"/>
            <a:chExt cx="2384280" cy="2544480"/>
          </a:xfrm>
        </p:grpSpPr>
        <p:sp>
          <p:nvSpPr>
            <p:cNvPr id="92" name="AutoShape 46"/>
            <p:cNvSpPr/>
            <p:nvPr/>
          </p:nvSpPr>
          <p:spPr>
            <a:xfrm rot="19980000">
              <a:off x="4231440" y="3863520"/>
              <a:ext cx="1483200" cy="741600"/>
            </a:xfrm>
            <a:prstGeom prst="parallelogram">
              <a:avLst>
                <a:gd name="adj" fmla="val 50926"/>
              </a:avLst>
            </a:prstGeom>
            <a:solidFill>
              <a:srgbClr val="ccff3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" name="Group 47"/>
            <p:cNvGrpSpPr/>
            <p:nvPr/>
          </p:nvGrpSpPr>
          <p:grpSpPr>
            <a:xfrm>
              <a:off x="3425400" y="3930480"/>
              <a:ext cx="1658160" cy="1333800"/>
              <a:chOff x="3425400" y="3930480"/>
              <a:chExt cx="1658160" cy="1333800"/>
            </a:xfrm>
          </p:grpSpPr>
          <p:sp>
            <p:nvSpPr>
              <p:cNvPr id="94" name="AutoShape 48"/>
              <p:cNvSpPr/>
              <p:nvPr/>
            </p:nvSpPr>
            <p:spPr>
              <a:xfrm rot="19980000">
                <a:off x="3512880" y="4226400"/>
                <a:ext cx="1483200" cy="741600"/>
              </a:xfrm>
              <a:prstGeom prst="parallelogram">
                <a:avLst>
                  <a:gd name="adj" fmla="val 50926"/>
                </a:avLst>
              </a:prstGeom>
              <a:solidFill>
                <a:srgbClr val="009999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95" name="Object 49"/>
              <p:cNvGraphicFramePr/>
              <p:nvPr/>
            </p:nvGraphicFramePr>
            <p:xfrm>
              <a:off x="4528080" y="3984840"/>
              <a:ext cx="194040" cy="23472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96" name="Object 49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4528080" y="3984840"/>
                        <a:ext cx="194040" cy="2347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97" name="Line 50"/>
            <p:cNvSpPr/>
            <p:nvPr/>
          </p:nvSpPr>
          <p:spPr>
            <a:xfrm flipH="1" flipV="1">
              <a:off x="5037120" y="5074560"/>
              <a:ext cx="605160" cy="30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AutoShape 51"/>
            <p:cNvSpPr/>
            <p:nvPr/>
          </p:nvSpPr>
          <p:spPr>
            <a:xfrm rot="19980000">
              <a:off x="3505320" y="5074200"/>
              <a:ext cx="1483200" cy="741600"/>
            </a:xfrm>
            <a:prstGeom prst="parallelogram">
              <a:avLst>
                <a:gd name="adj" fmla="val 50926"/>
              </a:avLst>
            </a:prstGeom>
            <a:solidFill>
              <a:srgbClr val="99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" name="Group 52"/>
            <p:cNvGrpSpPr/>
            <p:nvPr/>
          </p:nvGrpSpPr>
          <p:grpSpPr>
            <a:xfrm>
              <a:off x="3989520" y="4469040"/>
              <a:ext cx="302040" cy="401760"/>
              <a:chOff x="3989520" y="4469040"/>
              <a:chExt cx="302040" cy="401760"/>
            </a:xfrm>
          </p:grpSpPr>
          <p:sp>
            <p:nvSpPr>
              <p:cNvPr id="100" name="Freeform 53"/>
              <p:cNvSpPr/>
              <p:nvPr/>
            </p:nvSpPr>
            <p:spPr>
              <a:xfrm>
                <a:off x="3994200" y="4621680"/>
                <a:ext cx="87120" cy="240480"/>
              </a:xfrm>
              <a:prstGeom prst="pie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Freeform 54"/>
              <p:cNvSpPr/>
              <p:nvPr/>
            </p:nvSpPr>
            <p:spPr>
              <a:xfrm>
                <a:off x="4091400" y="4742280"/>
                <a:ext cx="16200" cy="44280"/>
              </a:xfrm>
              <a:prstGeom prst="pie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Freeform 55"/>
              <p:cNvSpPr/>
              <p:nvPr/>
            </p:nvSpPr>
            <p:spPr>
              <a:xfrm>
                <a:off x="4130640" y="4474080"/>
                <a:ext cx="142200" cy="232920"/>
              </a:xfrm>
              <a:prstGeom prst="pie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Freeform 56"/>
              <p:cNvSpPr/>
              <p:nvPr/>
            </p:nvSpPr>
            <p:spPr>
              <a:xfrm>
                <a:off x="4267800" y="4605120"/>
                <a:ext cx="20160" cy="45000"/>
              </a:xfrm>
              <a:prstGeom prst="pie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Freeform 57"/>
              <p:cNvSpPr/>
              <p:nvPr/>
            </p:nvSpPr>
            <p:spPr>
              <a:xfrm>
                <a:off x="3989520" y="4612680"/>
                <a:ext cx="96840" cy="258120"/>
              </a:xfrm>
              <a:prstGeom prst="pie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Freeform 58"/>
              <p:cNvSpPr/>
              <p:nvPr/>
            </p:nvSpPr>
            <p:spPr>
              <a:xfrm>
                <a:off x="4086360" y="4731120"/>
                <a:ext cx="26280" cy="65160"/>
              </a:xfrm>
              <a:prstGeom prst="pie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Freeform 59"/>
              <p:cNvSpPr/>
              <p:nvPr/>
            </p:nvSpPr>
            <p:spPr>
              <a:xfrm>
                <a:off x="4122720" y="4469040"/>
                <a:ext cx="154800" cy="244440"/>
              </a:xfrm>
              <a:prstGeom prst="pie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Freeform 60"/>
              <p:cNvSpPr/>
              <p:nvPr/>
            </p:nvSpPr>
            <p:spPr>
              <a:xfrm>
                <a:off x="4262760" y="4595040"/>
                <a:ext cx="28800" cy="65520"/>
              </a:xfrm>
              <a:prstGeom prst="pie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61"/>
            <p:cNvGrpSpPr/>
            <p:nvPr/>
          </p:nvGrpSpPr>
          <p:grpSpPr>
            <a:xfrm>
              <a:off x="4836960" y="3984840"/>
              <a:ext cx="424440" cy="478800"/>
              <a:chOff x="4836960" y="3984840"/>
              <a:chExt cx="424440" cy="478800"/>
            </a:xfrm>
          </p:grpSpPr>
          <p:sp>
            <p:nvSpPr>
              <p:cNvPr id="109" name="Freeform 62"/>
              <p:cNvSpPr/>
              <p:nvPr/>
            </p:nvSpPr>
            <p:spPr>
              <a:xfrm>
                <a:off x="4840920" y="4290480"/>
                <a:ext cx="68040" cy="165240"/>
              </a:xfrm>
              <a:prstGeom prst="pie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Freeform 63"/>
              <p:cNvSpPr/>
              <p:nvPr/>
            </p:nvSpPr>
            <p:spPr>
              <a:xfrm>
                <a:off x="4930560" y="4346280"/>
                <a:ext cx="15480" cy="40320"/>
              </a:xfrm>
              <a:prstGeom prst="pie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Freeform 64"/>
              <p:cNvSpPr/>
              <p:nvPr/>
            </p:nvSpPr>
            <p:spPr>
              <a:xfrm>
                <a:off x="4974120" y="4150440"/>
                <a:ext cx="87120" cy="182160"/>
              </a:xfrm>
              <a:prstGeom prst="pie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Freeform 65"/>
              <p:cNvSpPr/>
              <p:nvPr/>
            </p:nvSpPr>
            <p:spPr>
              <a:xfrm>
                <a:off x="5117760" y="3989160"/>
                <a:ext cx="128520" cy="208080"/>
              </a:xfrm>
              <a:prstGeom prst="pie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Freeform 66"/>
              <p:cNvSpPr/>
              <p:nvPr/>
            </p:nvSpPr>
            <p:spPr>
              <a:xfrm>
                <a:off x="5242680" y="4106880"/>
                <a:ext cx="14400" cy="38880"/>
              </a:xfrm>
              <a:prstGeom prst="pie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Freeform 67"/>
              <p:cNvSpPr/>
              <p:nvPr/>
            </p:nvSpPr>
            <p:spPr>
              <a:xfrm>
                <a:off x="4836960" y="4281480"/>
                <a:ext cx="77040" cy="182160"/>
              </a:xfrm>
              <a:prstGeom prst="pie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Freeform 68"/>
              <p:cNvSpPr/>
              <p:nvPr/>
            </p:nvSpPr>
            <p:spPr>
              <a:xfrm>
                <a:off x="4926240" y="4337280"/>
                <a:ext cx="23400" cy="57960"/>
              </a:xfrm>
              <a:prstGeom prst="pie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Freeform 69"/>
              <p:cNvSpPr/>
              <p:nvPr/>
            </p:nvSpPr>
            <p:spPr>
              <a:xfrm>
                <a:off x="4969800" y="4145760"/>
                <a:ext cx="96120" cy="191160"/>
              </a:xfrm>
              <a:prstGeom prst="pie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Freeform 70"/>
              <p:cNvSpPr/>
              <p:nvPr/>
            </p:nvSpPr>
            <p:spPr>
              <a:xfrm>
                <a:off x="5081400" y="4218840"/>
                <a:ext cx="23400" cy="57960"/>
              </a:xfrm>
              <a:prstGeom prst="pie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Freeform 71"/>
              <p:cNvSpPr/>
              <p:nvPr/>
            </p:nvSpPr>
            <p:spPr>
              <a:xfrm>
                <a:off x="5113080" y="3984840"/>
                <a:ext cx="137160" cy="219240"/>
              </a:xfrm>
              <a:prstGeom prst="pie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Freeform 72"/>
              <p:cNvSpPr/>
              <p:nvPr/>
            </p:nvSpPr>
            <p:spPr>
              <a:xfrm>
                <a:off x="5238360" y="4096800"/>
                <a:ext cx="23040" cy="57960"/>
              </a:xfrm>
              <a:prstGeom prst="pie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73"/>
            <p:cNvGrpSpPr/>
            <p:nvPr/>
          </p:nvGrpSpPr>
          <p:grpSpPr>
            <a:xfrm>
              <a:off x="4000680" y="5256360"/>
              <a:ext cx="278280" cy="344880"/>
              <a:chOff x="4000680" y="5256360"/>
              <a:chExt cx="278280" cy="344880"/>
            </a:xfrm>
          </p:grpSpPr>
          <p:sp>
            <p:nvSpPr>
              <p:cNvPr id="121" name="Freeform 74"/>
              <p:cNvSpPr/>
              <p:nvPr/>
            </p:nvSpPr>
            <p:spPr>
              <a:xfrm>
                <a:off x="4005000" y="5396400"/>
                <a:ext cx="80280" cy="195840"/>
              </a:xfrm>
              <a:prstGeom prst="pie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Freeform 75"/>
              <p:cNvSpPr/>
              <p:nvPr/>
            </p:nvSpPr>
            <p:spPr>
              <a:xfrm>
                <a:off x="4094640" y="5507640"/>
                <a:ext cx="14760" cy="42480"/>
              </a:xfrm>
              <a:prstGeom prst="pie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Freeform 76"/>
              <p:cNvSpPr/>
              <p:nvPr/>
            </p:nvSpPr>
            <p:spPr>
              <a:xfrm>
                <a:off x="4129200" y="5260680"/>
                <a:ext cx="132480" cy="215640"/>
              </a:xfrm>
              <a:prstGeom prst="pie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Freeform 77"/>
              <p:cNvSpPr/>
              <p:nvPr/>
            </p:nvSpPr>
            <p:spPr>
              <a:xfrm>
                <a:off x="4259520" y="5383800"/>
                <a:ext cx="14760" cy="39240"/>
              </a:xfrm>
              <a:prstGeom prst="pie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Freeform 78"/>
              <p:cNvSpPr/>
              <p:nvPr/>
            </p:nvSpPr>
            <p:spPr>
              <a:xfrm>
                <a:off x="4000680" y="5387040"/>
                <a:ext cx="89280" cy="214200"/>
              </a:xfrm>
              <a:prstGeom prst="pie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Freeform 79"/>
              <p:cNvSpPr/>
              <p:nvPr/>
            </p:nvSpPr>
            <p:spPr>
              <a:xfrm>
                <a:off x="4089960" y="5499720"/>
                <a:ext cx="24480" cy="59040"/>
              </a:xfrm>
              <a:prstGeom prst="pie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Freeform 80"/>
              <p:cNvSpPr/>
              <p:nvPr/>
            </p:nvSpPr>
            <p:spPr>
              <a:xfrm>
                <a:off x="4123440" y="5256360"/>
                <a:ext cx="142560" cy="226800"/>
              </a:xfrm>
              <a:prstGeom prst="pie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Freeform 81"/>
              <p:cNvSpPr/>
              <p:nvPr/>
            </p:nvSpPr>
            <p:spPr>
              <a:xfrm>
                <a:off x="4252680" y="5371920"/>
                <a:ext cx="26280" cy="60120"/>
              </a:xfrm>
              <a:prstGeom prst="pie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" name="Group 82"/>
            <p:cNvGrpSpPr/>
            <p:nvPr/>
          </p:nvGrpSpPr>
          <p:grpSpPr>
            <a:xfrm>
              <a:off x="5234400" y="3629160"/>
              <a:ext cx="175320" cy="241920"/>
              <a:chOff x="5234400" y="3629160"/>
              <a:chExt cx="175320" cy="241920"/>
            </a:xfrm>
          </p:grpSpPr>
          <p:sp>
            <p:nvSpPr>
              <p:cNvPr id="130" name="Freeform 83"/>
              <p:cNvSpPr/>
              <p:nvPr/>
            </p:nvSpPr>
            <p:spPr>
              <a:xfrm>
                <a:off x="5237640" y="3706200"/>
                <a:ext cx="72720" cy="158760"/>
              </a:xfrm>
              <a:prstGeom prst="pie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84"/>
              <p:cNvSpPr/>
              <p:nvPr/>
            </p:nvSpPr>
            <p:spPr>
              <a:xfrm>
                <a:off x="5294880" y="3790440"/>
                <a:ext cx="12240" cy="30600"/>
              </a:xfrm>
              <a:prstGeom prst="pie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Freeform 85"/>
              <p:cNvSpPr/>
              <p:nvPr/>
            </p:nvSpPr>
            <p:spPr>
              <a:xfrm>
                <a:off x="5335920" y="3632400"/>
                <a:ext cx="70200" cy="158040"/>
              </a:xfrm>
              <a:prstGeom prst="pie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Freeform 86"/>
              <p:cNvSpPr/>
              <p:nvPr/>
            </p:nvSpPr>
            <p:spPr>
              <a:xfrm>
                <a:off x="5234400" y="3702600"/>
                <a:ext cx="79560" cy="168480"/>
              </a:xfrm>
              <a:prstGeom prst="pie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Freeform 87"/>
              <p:cNvSpPr/>
              <p:nvPr/>
            </p:nvSpPr>
            <p:spPr>
              <a:xfrm>
                <a:off x="5292000" y="3782520"/>
                <a:ext cx="18000" cy="44640"/>
              </a:xfrm>
              <a:prstGeom prst="pie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Freeform 88"/>
              <p:cNvSpPr/>
              <p:nvPr/>
            </p:nvSpPr>
            <p:spPr>
              <a:xfrm>
                <a:off x="5330880" y="3629160"/>
                <a:ext cx="78840" cy="168480"/>
              </a:xfrm>
              <a:prstGeom prst="pie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Freeform 89"/>
              <p:cNvSpPr/>
              <p:nvPr/>
            </p:nvSpPr>
            <p:spPr>
              <a:xfrm>
                <a:off x="5387760" y="3709800"/>
                <a:ext cx="18360" cy="43920"/>
              </a:xfrm>
              <a:prstGeom prst="pie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" name="Group 90"/>
            <p:cNvGrpSpPr/>
            <p:nvPr/>
          </p:nvGrpSpPr>
          <p:grpSpPr>
            <a:xfrm>
              <a:off x="4451400" y="5328000"/>
              <a:ext cx="254520" cy="439560"/>
              <a:chOff x="4451400" y="5328000"/>
              <a:chExt cx="254520" cy="439560"/>
            </a:xfrm>
          </p:grpSpPr>
          <p:sp>
            <p:nvSpPr>
              <p:cNvPr id="138" name="Freeform 91"/>
              <p:cNvSpPr/>
              <p:nvPr/>
            </p:nvSpPr>
            <p:spPr>
              <a:xfrm>
                <a:off x="4500720" y="5328000"/>
                <a:ext cx="12600" cy="33480"/>
              </a:xfrm>
              <a:prstGeom prst="pie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Freeform 92"/>
              <p:cNvSpPr/>
              <p:nvPr/>
            </p:nvSpPr>
            <p:spPr>
              <a:xfrm>
                <a:off x="4455360" y="5553360"/>
                <a:ext cx="90720" cy="207360"/>
              </a:xfrm>
              <a:prstGeom prst="pie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Freeform 93"/>
              <p:cNvSpPr/>
              <p:nvPr/>
            </p:nvSpPr>
            <p:spPr>
              <a:xfrm>
                <a:off x="4577040" y="5631120"/>
                <a:ext cx="12600" cy="36720"/>
              </a:xfrm>
              <a:prstGeom prst="pie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Freeform 94"/>
              <p:cNvSpPr/>
              <p:nvPr/>
            </p:nvSpPr>
            <p:spPr>
              <a:xfrm>
                <a:off x="4620600" y="5454360"/>
                <a:ext cx="79920" cy="178920"/>
              </a:xfrm>
              <a:prstGeom prst="pie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Freeform 95"/>
              <p:cNvSpPr/>
              <p:nvPr/>
            </p:nvSpPr>
            <p:spPr>
              <a:xfrm>
                <a:off x="4685040" y="5549040"/>
                <a:ext cx="13680" cy="34560"/>
              </a:xfrm>
              <a:prstGeom prst="pie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Freeform 96"/>
              <p:cNvSpPr/>
              <p:nvPr/>
            </p:nvSpPr>
            <p:spPr>
              <a:xfrm>
                <a:off x="4451400" y="5546160"/>
                <a:ext cx="99000" cy="221400"/>
              </a:xfrm>
              <a:prstGeom prst="pie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Freeform 97"/>
              <p:cNvSpPr/>
              <p:nvPr/>
            </p:nvSpPr>
            <p:spPr>
              <a:xfrm>
                <a:off x="4573440" y="5623560"/>
                <a:ext cx="20520" cy="51480"/>
              </a:xfrm>
              <a:prstGeom prst="pie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98"/>
              <p:cNvSpPr/>
              <p:nvPr/>
            </p:nvSpPr>
            <p:spPr>
              <a:xfrm>
                <a:off x="4617000" y="5451480"/>
                <a:ext cx="88920" cy="189720"/>
              </a:xfrm>
              <a:prstGeom prst="pie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99"/>
              <p:cNvSpPr/>
              <p:nvPr/>
            </p:nvSpPr>
            <p:spPr>
              <a:xfrm>
                <a:off x="4681080" y="5540400"/>
                <a:ext cx="20880" cy="51120"/>
              </a:xfrm>
              <a:prstGeom prst="pie">
                <a:avLst/>
              </a:pr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7" name="Text Box 100"/>
          <p:cNvSpPr/>
          <p:nvPr/>
        </p:nvSpPr>
        <p:spPr>
          <a:xfrm>
            <a:off x="333360" y="6210360"/>
            <a:ext cx="2651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HP IS ROTATED DOWNWARD  90</a:t>
            </a:r>
            <a:r>
              <a:rPr b="1" lang="en-US" sz="1200" spc="-1" strike="noStrike" baseline="30000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BROUGHT IN THE PLANE OF F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01"/>
          <p:cNvSpPr/>
          <p:nvPr/>
        </p:nvSpPr>
        <p:spPr>
          <a:xfrm>
            <a:off x="2982600" y="6205680"/>
            <a:ext cx="2840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imes New Roman"/>
              </a:rPr>
              <a:t>PP  IS ROTATED IN  RIGHT SIDE  90</a:t>
            </a:r>
            <a:r>
              <a:rPr b="1" lang="en-US" sz="1200" spc="-1" strike="noStrike" baseline="30000">
                <a:solidFill>
                  <a:srgbClr val="333399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imes New Roman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imes New Roman"/>
              </a:rPr>
              <a:t>BROUGHT IN THE PLANE OF FP.</a:t>
            </a:r>
            <a:r>
              <a:rPr b="1" lang="en-US" sz="1200" spc="-1" strike="noStrike" baseline="30000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Group 102"/>
          <p:cNvGrpSpPr/>
          <p:nvPr/>
        </p:nvGrpSpPr>
        <p:grpSpPr>
          <a:xfrm>
            <a:off x="3430800" y="3919680"/>
            <a:ext cx="2331360" cy="1287360"/>
            <a:chOff x="3430800" y="3919680"/>
            <a:chExt cx="2331360" cy="1287360"/>
          </a:xfrm>
        </p:grpSpPr>
        <p:sp>
          <p:nvSpPr>
            <p:cNvPr id="150" name="Text Box 103"/>
            <p:cNvSpPr/>
            <p:nvPr/>
          </p:nvSpPr>
          <p:spPr>
            <a:xfrm>
              <a:off x="3430800" y="483876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 Box 104"/>
            <p:cNvSpPr/>
            <p:nvPr/>
          </p:nvSpPr>
          <p:spPr>
            <a:xfrm>
              <a:off x="5416920" y="391968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Text Box 105"/>
          <p:cNvSpPr/>
          <p:nvPr/>
        </p:nvSpPr>
        <p:spPr>
          <a:xfrm>
            <a:off x="6326280" y="4572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06"/>
          <p:cNvSpPr/>
          <p:nvPr/>
        </p:nvSpPr>
        <p:spPr>
          <a:xfrm>
            <a:off x="8796600" y="4572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Group 107"/>
          <p:cNvGrpSpPr/>
          <p:nvPr/>
        </p:nvGrpSpPr>
        <p:grpSpPr>
          <a:xfrm>
            <a:off x="6588000" y="3790800"/>
            <a:ext cx="2230200" cy="2039040"/>
            <a:chOff x="6588000" y="3790800"/>
            <a:chExt cx="2230200" cy="2039040"/>
          </a:xfrm>
        </p:grpSpPr>
        <p:sp>
          <p:nvSpPr>
            <p:cNvPr id="155" name="Text Box 108"/>
            <p:cNvSpPr/>
            <p:nvPr/>
          </p:nvSpPr>
          <p:spPr>
            <a:xfrm>
              <a:off x="6588000" y="3819240"/>
              <a:ext cx="40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F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109"/>
            <p:cNvSpPr/>
            <p:nvPr/>
          </p:nvSpPr>
          <p:spPr>
            <a:xfrm>
              <a:off x="6601680" y="5492520"/>
              <a:ext cx="43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H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 Box 110"/>
            <p:cNvSpPr/>
            <p:nvPr/>
          </p:nvSpPr>
          <p:spPr>
            <a:xfrm>
              <a:off x="8411760" y="3790800"/>
              <a:ext cx="40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Text Box 111"/>
          <p:cNvSpPr/>
          <p:nvPr/>
        </p:nvSpPr>
        <p:spPr>
          <a:xfrm>
            <a:off x="7026120" y="409104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Group 112"/>
          <p:cNvGrpSpPr/>
          <p:nvPr/>
        </p:nvGrpSpPr>
        <p:grpSpPr>
          <a:xfrm>
            <a:off x="5833800" y="5981760"/>
            <a:ext cx="3317040" cy="839880"/>
            <a:chOff x="5833800" y="5981760"/>
            <a:chExt cx="3317040" cy="839880"/>
          </a:xfrm>
        </p:grpSpPr>
        <p:sp>
          <p:nvSpPr>
            <p:cNvPr id="160" name="Rectangle 113"/>
            <p:cNvSpPr/>
            <p:nvPr/>
          </p:nvSpPr>
          <p:spPr>
            <a:xfrm>
              <a:off x="5892840" y="5981760"/>
              <a:ext cx="3200040" cy="8384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 Box 114"/>
            <p:cNvSpPr/>
            <p:nvPr/>
          </p:nvSpPr>
          <p:spPr>
            <a:xfrm>
              <a:off x="5833800" y="5997600"/>
              <a:ext cx="3317040" cy="8240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d60093"/>
                  </a:solidFill>
                  <a:latin typeface="Times New Roman"/>
                </a:rPr>
                <a:t>ACTUAL PATTERN OF PLANES &amp; VIEW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d60093"/>
                  </a:solidFill>
                  <a:latin typeface="Times New Roman"/>
                </a:rPr>
                <a:t>OF ORTHOGRAPHIC PROJECTION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d60093"/>
                  </a:solidFill>
                  <a:latin typeface="Times New Roman"/>
                </a:rPr>
                <a:t>DRAWN I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d60093"/>
                  </a:solidFill>
                  <a:latin typeface="Times New Roman"/>
                </a:rPr>
                <a:t>FIRST ANGLE METHOD OF PROJECTIO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Arc 115"/>
          <p:cNvSpPr/>
          <p:nvPr/>
        </p:nvSpPr>
        <p:spPr>
          <a:xfrm rot="2385000">
            <a:off x="2209320" y="3306600"/>
            <a:ext cx="897120" cy="846360"/>
          </a:xfrm>
          <a:prstGeom prst="pie">
            <a:avLst/>
          </a:pr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116"/>
          <p:cNvSpPr/>
          <p:nvPr/>
        </p:nvSpPr>
        <p:spPr>
          <a:xfrm flipV="1">
            <a:off x="1752480" y="3335040"/>
            <a:ext cx="106704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17"/>
          <p:cNvSpPr/>
          <p:nvPr/>
        </p:nvSpPr>
        <p:spPr>
          <a:xfrm>
            <a:off x="8001000" y="4076640"/>
            <a:ext cx="45720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18"/>
          <p:cNvSpPr/>
          <p:nvPr/>
        </p:nvSpPr>
        <p:spPr>
          <a:xfrm>
            <a:off x="7010280" y="4886280"/>
            <a:ext cx="4572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19"/>
          <p:cNvSpPr/>
          <p:nvPr/>
        </p:nvSpPr>
        <p:spPr>
          <a:xfrm>
            <a:off x="7969320" y="4091040"/>
            <a:ext cx="56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S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20"/>
          <p:cNvSpPr/>
          <p:nvPr/>
        </p:nvSpPr>
        <p:spPr>
          <a:xfrm>
            <a:off x="7017120" y="4929120"/>
            <a:ext cx="45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Group 121"/>
          <p:cNvGrpSpPr/>
          <p:nvPr/>
        </p:nvGrpSpPr>
        <p:grpSpPr>
          <a:xfrm>
            <a:off x="2907360" y="1676520"/>
            <a:ext cx="6240240" cy="877320"/>
            <a:chOff x="2907360" y="1676520"/>
            <a:chExt cx="6240240" cy="877320"/>
          </a:xfrm>
        </p:grpSpPr>
        <p:sp>
          <p:nvSpPr>
            <p:cNvPr id="169" name="Rectangle 122"/>
            <p:cNvSpPr/>
            <p:nvPr/>
          </p:nvSpPr>
          <p:spPr>
            <a:xfrm>
              <a:off x="2927160" y="1697040"/>
              <a:ext cx="6086520" cy="8568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123"/>
            <p:cNvSpPr/>
            <p:nvPr/>
          </p:nvSpPr>
          <p:spPr>
            <a:xfrm>
              <a:off x="2907360" y="1676520"/>
              <a:ext cx="62402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d60093"/>
                  </a:solidFill>
                  <a:latin typeface="Times New Roman"/>
                </a:rPr>
                <a:t>A)</a:t>
              </a:r>
              <a:r>
                <a:rPr b="1" lang="en-US" sz="1200" spc="-1" strike="noStrike">
                  <a:solidFill>
                    <a:srgbClr val="333399"/>
                  </a:solidFill>
                  <a:latin typeface="Times New Roman"/>
                </a:rPr>
                <a:t>  HP IS ROTATED 90</a:t>
              </a:r>
              <a:r>
                <a:rPr b="1" lang="en-US" sz="1200" spc="-1" strike="noStrike" baseline="30000">
                  <a:solidFill>
                    <a:srgbClr val="333399"/>
                  </a:solidFill>
                  <a:latin typeface="Times New Roman"/>
                </a:rPr>
                <a:t>0</a:t>
              </a:r>
              <a:r>
                <a:rPr b="1" lang="en-US" sz="1200" spc="-1" strike="noStrike">
                  <a:solidFill>
                    <a:srgbClr val="333399"/>
                  </a:solidFill>
                  <a:latin typeface="Times New Roman"/>
                </a:rPr>
                <a:t> DOUNWARD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d60093"/>
                  </a:solidFill>
                  <a:latin typeface="Times New Roman"/>
                </a:rPr>
                <a:t>B</a:t>
              </a:r>
              <a:r>
                <a:rPr b="1" lang="en-US" sz="1200" spc="-1" strike="noStrike">
                  <a:solidFill>
                    <a:srgbClr val="333399"/>
                  </a:solidFill>
                  <a:latin typeface="Times New Roman"/>
                </a:rPr>
                <a:t>)  PP, 90</a:t>
              </a:r>
              <a:r>
                <a:rPr b="1" lang="en-US" sz="1200" spc="-1" strike="noStrike" baseline="30000">
                  <a:solidFill>
                    <a:srgbClr val="333399"/>
                  </a:solidFill>
                  <a:latin typeface="Times New Roman"/>
                </a:rPr>
                <a:t>0</a:t>
              </a:r>
              <a:r>
                <a:rPr b="1" lang="en-US" sz="1200" spc="-1" strike="noStrike">
                  <a:solidFill>
                    <a:srgbClr val="333399"/>
                  </a:solidFill>
                  <a:latin typeface="Times New Roman"/>
                </a:rPr>
                <a:t> IN RIGHT SIDE DIRECTION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Times New Roman"/>
                </a:rPr>
                <a:t>THIS WAY BOTH PLANES ARE BROUGHT IN THE SAME PLANE CONTAINING FP.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Text Box 124"/>
          <p:cNvSpPr/>
          <p:nvPr/>
        </p:nvSpPr>
        <p:spPr>
          <a:xfrm>
            <a:off x="3364560" y="1066680"/>
            <a:ext cx="5292360" cy="337320"/>
          </a:xfrm>
          <a:prstGeom prst="rect">
            <a:avLst/>
          </a:prstGeom>
          <a:solidFill>
            <a:srgbClr val="00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TTERN OF PLANES &amp; VIEWS (First Angle Metho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25"/>
          <p:cNvSpPr/>
          <p:nvPr/>
        </p:nvSpPr>
        <p:spPr>
          <a:xfrm>
            <a:off x="2666880" y="2590920"/>
            <a:ext cx="335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rizontal Plane (Top Pla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126"/>
          <p:cNvSpPr/>
          <p:nvPr/>
        </p:nvSpPr>
        <p:spPr>
          <a:xfrm flipH="1" flipV="1">
            <a:off x="1828800" y="2666880"/>
            <a:ext cx="9907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27"/>
          <p:cNvSpPr/>
          <p:nvPr/>
        </p:nvSpPr>
        <p:spPr>
          <a:xfrm>
            <a:off x="0" y="15228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ntal Plane (Vertical Pla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128"/>
          <p:cNvSpPr/>
          <p:nvPr/>
        </p:nvSpPr>
        <p:spPr>
          <a:xfrm>
            <a:off x="457200" y="45720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29"/>
          <p:cNvSpPr/>
          <p:nvPr/>
        </p:nvSpPr>
        <p:spPr>
          <a:xfrm>
            <a:off x="0" y="11430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30"/>
          <p:cNvSpPr/>
          <p:nvPr/>
        </p:nvSpPr>
        <p:spPr>
          <a:xfrm>
            <a:off x="1371600" y="2743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31"/>
          <p:cNvSpPr/>
          <p:nvPr/>
        </p:nvSpPr>
        <p:spPr>
          <a:xfrm>
            <a:off x="1828800" y="990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32"/>
          <p:cNvSpPr/>
          <p:nvPr/>
        </p:nvSpPr>
        <p:spPr>
          <a:xfrm>
            <a:off x="2743200" y="0"/>
            <a:ext cx="6400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ORTHOGRAPHIC PROJ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4" descr=""/>
          <p:cNvPicPr/>
          <p:nvPr/>
        </p:nvPicPr>
        <p:blipFill>
          <a:blip r:embed="rId1"/>
          <a:stretch/>
        </p:blipFill>
        <p:spPr>
          <a:xfrm>
            <a:off x="1539720" y="1000080"/>
            <a:ext cx="6019920" cy="56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4" descr=""/>
          <p:cNvPicPr/>
          <p:nvPr/>
        </p:nvPicPr>
        <p:blipFill>
          <a:blip r:embed="rId1"/>
          <a:stretch/>
        </p:blipFill>
        <p:spPr>
          <a:xfrm>
            <a:off x="1027080" y="1206360"/>
            <a:ext cx="7324920" cy="549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4" descr=""/>
          <p:cNvPicPr/>
          <p:nvPr/>
        </p:nvPicPr>
        <p:blipFill>
          <a:blip r:embed="rId1"/>
          <a:stretch/>
        </p:blipFill>
        <p:spPr>
          <a:xfrm>
            <a:off x="636480" y="977760"/>
            <a:ext cx="7940880" cy="572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2"/>
          <p:cNvSpPr/>
          <p:nvPr/>
        </p:nvSpPr>
        <p:spPr>
          <a:xfrm>
            <a:off x="0" y="0"/>
            <a:ext cx="3276720" cy="2895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Group 3"/>
          <p:cNvGrpSpPr/>
          <p:nvPr/>
        </p:nvGrpSpPr>
        <p:grpSpPr>
          <a:xfrm>
            <a:off x="5576760" y="304920"/>
            <a:ext cx="1040400" cy="721800"/>
            <a:chOff x="5576760" y="304920"/>
            <a:chExt cx="1040400" cy="721800"/>
          </a:xfrm>
        </p:grpSpPr>
        <p:sp>
          <p:nvSpPr>
            <p:cNvPr id="182" name="AutoShape 4"/>
            <p:cNvSpPr/>
            <p:nvPr/>
          </p:nvSpPr>
          <p:spPr>
            <a:xfrm rot="16167000">
              <a:off x="5640840" y="655200"/>
              <a:ext cx="470880" cy="268920"/>
            </a:xfrm>
            <a:prstGeom prst="leftArrow">
              <a:avLst>
                <a:gd name="adj1" fmla="val 50000"/>
                <a:gd name="adj2" fmla="val 43775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5"/>
            <p:cNvSpPr/>
            <p:nvPr/>
          </p:nvSpPr>
          <p:spPr>
            <a:xfrm>
              <a:off x="5576760" y="304920"/>
              <a:ext cx="1040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FOR T.V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Group 6"/>
          <p:cNvGrpSpPr/>
          <p:nvPr/>
        </p:nvGrpSpPr>
        <p:grpSpPr>
          <a:xfrm>
            <a:off x="3081240" y="5253480"/>
            <a:ext cx="1050120" cy="885960"/>
            <a:chOff x="3081240" y="5253480"/>
            <a:chExt cx="1050120" cy="885960"/>
          </a:xfrm>
        </p:grpSpPr>
        <p:sp>
          <p:nvSpPr>
            <p:cNvPr id="185" name="AutoShape 7"/>
            <p:cNvSpPr/>
            <p:nvPr/>
          </p:nvSpPr>
          <p:spPr>
            <a:xfrm rot="8594400">
              <a:off x="3303000" y="5648040"/>
              <a:ext cx="829800" cy="270000"/>
            </a:xfrm>
            <a:prstGeom prst="leftArrow">
              <a:avLst>
                <a:gd name="adj1" fmla="val 50000"/>
                <a:gd name="adj2" fmla="val 7683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8"/>
            <p:cNvSpPr/>
            <p:nvPr/>
          </p:nvSpPr>
          <p:spPr>
            <a:xfrm rot="19429800">
              <a:off x="3082680" y="5520960"/>
              <a:ext cx="1017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FOR S.V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Group 9"/>
          <p:cNvGrpSpPr/>
          <p:nvPr/>
        </p:nvGrpSpPr>
        <p:grpSpPr>
          <a:xfrm>
            <a:off x="7864200" y="5256720"/>
            <a:ext cx="1186200" cy="872640"/>
            <a:chOff x="7864200" y="5256720"/>
            <a:chExt cx="1186200" cy="872640"/>
          </a:xfrm>
        </p:grpSpPr>
        <p:sp>
          <p:nvSpPr>
            <p:cNvPr id="188" name="AutoShape 10"/>
            <p:cNvSpPr/>
            <p:nvPr/>
          </p:nvSpPr>
          <p:spPr>
            <a:xfrm rot="2041800">
              <a:off x="7864200" y="5577480"/>
              <a:ext cx="875520" cy="268920"/>
            </a:xfrm>
            <a:prstGeom prst="leftArrow">
              <a:avLst>
                <a:gd name="adj1" fmla="val 50000"/>
                <a:gd name="adj2" fmla="val 81392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 Box 11"/>
            <p:cNvSpPr/>
            <p:nvPr/>
          </p:nvSpPr>
          <p:spPr>
            <a:xfrm rot="2136600">
              <a:off x="8020080" y="5524200"/>
              <a:ext cx="1028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FOR F.V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AutoShape 12"/>
          <p:cNvSpPr/>
          <p:nvPr/>
        </p:nvSpPr>
        <p:spPr>
          <a:xfrm>
            <a:off x="2819520" y="2671920"/>
            <a:ext cx="6324480" cy="3628800"/>
          </a:xfrm>
          <a:prstGeom prst="diamond">
            <a:avLst/>
          </a:prstGeom>
          <a:gradFill rotWithShape="0">
            <a:gsLst>
              <a:gs pos="0">
                <a:srgbClr val="232300"/>
              </a:gs>
              <a:gs pos="50000">
                <a:srgbClr val="cccc00"/>
              </a:gs>
              <a:gs pos="100000">
                <a:srgbClr val="2323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3"/>
          <p:cNvGrpSpPr/>
          <p:nvPr/>
        </p:nvGrpSpPr>
        <p:grpSpPr>
          <a:xfrm>
            <a:off x="4518000" y="2441520"/>
            <a:ext cx="2788560" cy="2883960"/>
            <a:chOff x="4518000" y="2441520"/>
            <a:chExt cx="2788560" cy="2883960"/>
          </a:xfrm>
        </p:grpSpPr>
        <p:graphicFrame>
          <p:nvGraphicFramePr>
            <p:cNvPr id="192" name="Object 14"/>
            <p:cNvGraphicFramePr/>
            <p:nvPr/>
          </p:nvGraphicFramePr>
          <p:xfrm>
            <a:off x="5211720" y="2441520"/>
            <a:ext cx="1230840" cy="2381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93" name="Object 1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211720" y="2441520"/>
                      <a:ext cx="1230840" cy="2381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94" name="Group 15"/>
            <p:cNvGrpSpPr/>
            <p:nvPr/>
          </p:nvGrpSpPr>
          <p:grpSpPr>
            <a:xfrm>
              <a:off x="4518000" y="4354200"/>
              <a:ext cx="2788560" cy="971280"/>
              <a:chOff x="4518000" y="4354200"/>
              <a:chExt cx="2788560" cy="971280"/>
            </a:xfrm>
          </p:grpSpPr>
          <p:sp>
            <p:nvSpPr>
              <p:cNvPr id="195" name="AutoShape 16"/>
              <p:cNvSpPr/>
              <p:nvPr/>
            </p:nvSpPr>
            <p:spPr>
              <a:xfrm>
                <a:off x="5611680" y="4354200"/>
                <a:ext cx="1694880" cy="971280"/>
              </a:xfrm>
              <a:prstGeom prst="diamond">
                <a:avLst/>
              </a:prstGeom>
              <a:solidFill>
                <a:srgbClr val="cc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AutoShape 17"/>
              <p:cNvSpPr/>
              <p:nvPr/>
            </p:nvSpPr>
            <p:spPr>
              <a:xfrm>
                <a:off x="4518000" y="4492440"/>
                <a:ext cx="1187280" cy="681480"/>
              </a:xfrm>
              <a:prstGeom prst="diamond">
                <a:avLst/>
              </a:prstGeom>
              <a:solidFill>
                <a:srgbClr val="cc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7" name="Group 18"/>
          <p:cNvGrpSpPr/>
          <p:nvPr/>
        </p:nvGrpSpPr>
        <p:grpSpPr>
          <a:xfrm>
            <a:off x="6541920" y="3262320"/>
            <a:ext cx="768240" cy="2082600"/>
            <a:chOff x="6541920" y="3262320"/>
            <a:chExt cx="768240" cy="2082600"/>
          </a:xfrm>
        </p:grpSpPr>
        <p:sp>
          <p:nvSpPr>
            <p:cNvPr id="198" name="Freeform 19"/>
            <p:cNvSpPr/>
            <p:nvPr/>
          </p:nvSpPr>
          <p:spPr>
            <a:xfrm>
              <a:off x="6543360" y="3264120"/>
              <a:ext cx="766800" cy="2080800"/>
            </a:xfrm>
            <a:prstGeom prst="pi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20"/>
            <p:cNvSpPr/>
            <p:nvPr/>
          </p:nvSpPr>
          <p:spPr>
            <a:xfrm>
              <a:off x="6541920" y="3262320"/>
              <a:ext cx="753120" cy="2042640"/>
            </a:xfrm>
            <a:prstGeom prst="pie">
              <a:avLst/>
            </a:pr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Group 21"/>
          <p:cNvGrpSpPr/>
          <p:nvPr/>
        </p:nvGrpSpPr>
        <p:grpSpPr>
          <a:xfrm>
            <a:off x="4591080" y="3241800"/>
            <a:ext cx="452160" cy="1962000"/>
            <a:chOff x="4591080" y="3241800"/>
            <a:chExt cx="452160" cy="1962000"/>
          </a:xfrm>
        </p:grpSpPr>
        <p:sp>
          <p:nvSpPr>
            <p:cNvPr id="201" name="Freeform 22"/>
            <p:cNvSpPr/>
            <p:nvPr/>
          </p:nvSpPr>
          <p:spPr>
            <a:xfrm>
              <a:off x="4591080" y="3241800"/>
              <a:ext cx="449640" cy="1962000"/>
            </a:xfrm>
            <a:prstGeom prst="pie">
              <a:avLst/>
            </a:prstGeom>
            <a:solidFill>
              <a:srgbClr val="c4c0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23"/>
            <p:cNvSpPr/>
            <p:nvPr/>
          </p:nvSpPr>
          <p:spPr>
            <a:xfrm>
              <a:off x="4593600" y="3241800"/>
              <a:ext cx="449640" cy="1962000"/>
            </a:xfrm>
            <a:prstGeom prst="pie">
              <a:avLst/>
            </a:pr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Group 24"/>
          <p:cNvGrpSpPr/>
          <p:nvPr/>
        </p:nvGrpSpPr>
        <p:grpSpPr>
          <a:xfrm>
            <a:off x="5200560" y="1881360"/>
            <a:ext cx="1200240" cy="674640"/>
            <a:chOff x="5200560" y="1881360"/>
            <a:chExt cx="1200240" cy="674640"/>
          </a:xfrm>
        </p:grpSpPr>
        <p:sp>
          <p:nvSpPr>
            <p:cNvPr id="204" name="Freeform 25"/>
            <p:cNvSpPr/>
            <p:nvPr/>
          </p:nvSpPr>
          <p:spPr>
            <a:xfrm>
              <a:off x="5200560" y="1881360"/>
              <a:ext cx="1200240" cy="674640"/>
            </a:xfrm>
            <a:prstGeom prst="pie">
              <a:avLst/>
            </a:prstGeom>
            <a:solidFill>
              <a:srgbClr val="7cc5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26"/>
            <p:cNvSpPr/>
            <p:nvPr/>
          </p:nvSpPr>
          <p:spPr>
            <a:xfrm>
              <a:off x="5200560" y="1881360"/>
              <a:ext cx="1200240" cy="674640"/>
            </a:xfrm>
            <a:prstGeom prst="pie">
              <a:avLst/>
            </a:pr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AutoShape 27"/>
          <p:cNvSpPr/>
          <p:nvPr/>
        </p:nvSpPr>
        <p:spPr>
          <a:xfrm>
            <a:off x="3849840" y="1138320"/>
            <a:ext cx="4082760" cy="2344680"/>
          </a:xfrm>
          <a:prstGeom prst="diamond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211720" y="2120760"/>
            <a:ext cx="1199880" cy="1029960"/>
            <a:chOff x="5211720" y="2120760"/>
            <a:chExt cx="1199880" cy="1029960"/>
          </a:xfrm>
        </p:grpSpPr>
        <p:sp>
          <p:nvSpPr>
            <p:cNvPr id="208" name="Line 29"/>
            <p:cNvSpPr/>
            <p:nvPr/>
          </p:nvSpPr>
          <p:spPr>
            <a:xfrm flipV="1">
              <a:off x="5211720" y="2280240"/>
              <a:ext cx="0" cy="64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Line 30"/>
            <p:cNvSpPr/>
            <p:nvPr/>
          </p:nvSpPr>
          <p:spPr>
            <a:xfrm flipV="1">
              <a:off x="5661720" y="2520720"/>
              <a:ext cx="0" cy="63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31"/>
            <p:cNvSpPr/>
            <p:nvPr/>
          </p:nvSpPr>
          <p:spPr>
            <a:xfrm flipV="1">
              <a:off x="6411600" y="2120760"/>
              <a:ext cx="0" cy="56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Group 32"/>
          <p:cNvGrpSpPr/>
          <p:nvPr/>
        </p:nvGrpSpPr>
        <p:grpSpPr>
          <a:xfrm>
            <a:off x="4609800" y="2890800"/>
            <a:ext cx="1061640" cy="2290320"/>
            <a:chOff x="4609800" y="2890800"/>
            <a:chExt cx="1061640" cy="2290320"/>
          </a:xfrm>
        </p:grpSpPr>
        <p:sp>
          <p:nvSpPr>
            <p:cNvPr id="212" name="Line 33"/>
            <p:cNvSpPr/>
            <p:nvPr/>
          </p:nvSpPr>
          <p:spPr>
            <a:xfrm flipH="1">
              <a:off x="5050440" y="3150720"/>
              <a:ext cx="621000" cy="398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34"/>
            <p:cNvSpPr/>
            <p:nvPr/>
          </p:nvSpPr>
          <p:spPr>
            <a:xfrm flipH="1">
              <a:off x="4609800" y="2890800"/>
              <a:ext cx="621000" cy="398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35"/>
            <p:cNvSpPr/>
            <p:nvPr/>
          </p:nvSpPr>
          <p:spPr>
            <a:xfrm flipH="1">
              <a:off x="5020560" y="4782600"/>
              <a:ext cx="621360" cy="398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Group 36"/>
          <p:cNvGrpSpPr/>
          <p:nvPr/>
        </p:nvGrpSpPr>
        <p:grpSpPr>
          <a:xfrm>
            <a:off x="5370480" y="2720880"/>
            <a:ext cx="1941120" cy="2612880"/>
            <a:chOff x="5370480" y="2720880"/>
            <a:chExt cx="1941120" cy="2612880"/>
          </a:xfrm>
        </p:grpSpPr>
        <p:sp>
          <p:nvSpPr>
            <p:cNvPr id="216" name="Line 37"/>
            <p:cNvSpPr/>
            <p:nvPr/>
          </p:nvSpPr>
          <p:spPr>
            <a:xfrm>
              <a:off x="5610600" y="3137760"/>
              <a:ext cx="940320" cy="5637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38"/>
            <p:cNvSpPr/>
            <p:nvPr/>
          </p:nvSpPr>
          <p:spPr>
            <a:xfrm>
              <a:off x="6411240" y="2720880"/>
              <a:ext cx="900360" cy="54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Line 39"/>
            <p:cNvSpPr/>
            <p:nvPr/>
          </p:nvSpPr>
          <p:spPr>
            <a:xfrm>
              <a:off x="5370480" y="4613040"/>
              <a:ext cx="1200600" cy="72072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19" name="Object 40"/>
          <p:cNvGraphicFramePr/>
          <p:nvPr/>
        </p:nvGraphicFramePr>
        <p:xfrm>
          <a:off x="7983360" y="4302000"/>
          <a:ext cx="960480" cy="524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0" name="Object 4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983360" y="4302000"/>
                    <a:ext cx="960480" cy="5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WordArt 41"/>
          <p:cNvSpPr txBox="1"/>
          <p:nvPr/>
        </p:nvSpPr>
        <p:spPr>
          <a:xfrm>
            <a:off x="3929040" y="2521080"/>
            <a:ext cx="482760" cy="76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Down">
              <a:avLst>
                <a:gd name="adj" fmla="val 5740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P.P.</a:t>
            </a:r>
            <a:endParaRPr b="1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22" name="WordArt 42"/>
          <p:cNvSpPr txBox="1"/>
          <p:nvPr/>
        </p:nvSpPr>
        <p:spPr>
          <a:xfrm rot="21389400">
            <a:off x="7321320" y="2562120"/>
            <a:ext cx="623880" cy="63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665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F.P.</a:t>
            </a:r>
            <a:endParaRPr b="1" lang="en-US" sz="2400" spc="1" strike="noStrike">
              <a:ln w="9360">
                <a:solidFill>
                  <a:srgbClr val="cc99ff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23" name="WordArt 43"/>
          <p:cNvSpPr txBox="1"/>
          <p:nvPr/>
        </p:nvSpPr>
        <p:spPr>
          <a:xfrm rot="21389400">
            <a:off x="6794280" y="3992040"/>
            <a:ext cx="38880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665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F.V.</a:t>
            </a:r>
            <a:endParaRPr b="1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224" name="WordArt 44"/>
          <p:cNvSpPr txBox="1"/>
          <p:nvPr/>
        </p:nvSpPr>
        <p:spPr>
          <a:xfrm>
            <a:off x="4660920" y="3952800"/>
            <a:ext cx="336600" cy="47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Down">
              <a:avLst>
                <a:gd name="adj" fmla="val 5740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S.V.</a:t>
            </a:r>
            <a:endParaRPr b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graphicFrame>
        <p:nvGraphicFramePr>
          <p:cNvPr id="225" name="Object 45"/>
          <p:cNvGraphicFramePr/>
          <p:nvPr/>
        </p:nvGraphicFramePr>
        <p:xfrm>
          <a:off x="5511960" y="1995480"/>
          <a:ext cx="560160" cy="406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6" name="Object 4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511960" y="1995480"/>
                    <a:ext cx="56016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7" name="Object 46"/>
          <p:cNvGraphicFramePr/>
          <p:nvPr/>
        </p:nvGraphicFramePr>
        <p:xfrm>
          <a:off x="5491080" y="1209600"/>
          <a:ext cx="800280" cy="531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28" name="Object 4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91080" y="1209600"/>
                    <a:ext cx="800280" cy="53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AutoShape 47"/>
          <p:cNvSpPr/>
          <p:nvPr/>
        </p:nvSpPr>
        <p:spPr>
          <a:xfrm flipH="1" rot="18001200">
            <a:off x="4901400" y="2989440"/>
            <a:ext cx="4083120" cy="2345040"/>
          </a:xfrm>
          <a:prstGeom prst="diamond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48"/>
          <p:cNvSpPr/>
          <p:nvPr/>
        </p:nvSpPr>
        <p:spPr>
          <a:xfrm rot="3598800">
            <a:off x="2819520" y="2989800"/>
            <a:ext cx="4083120" cy="2344680"/>
          </a:xfrm>
          <a:prstGeom prst="diamond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WordArt 49"/>
          <p:cNvSpPr txBox="1"/>
          <p:nvPr/>
        </p:nvSpPr>
        <p:spPr>
          <a:xfrm rot="20587800">
            <a:off x="5887800" y="2916360"/>
            <a:ext cx="480960" cy="23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665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OBJECT</a:t>
            </a:r>
            <a:endParaRPr b="1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232" name="Text Box 50"/>
          <p:cNvSpPr/>
          <p:nvPr/>
        </p:nvSpPr>
        <p:spPr>
          <a:xfrm>
            <a:off x="257400" y="990720"/>
            <a:ext cx="2980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IN THIS METHOD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THE OBJECT IS ASSUMED TO B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ITUATED IN THIRD QUADRA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( BELOW HP &amp; BEHIND OF FP.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51"/>
          <p:cNvSpPr/>
          <p:nvPr/>
        </p:nvSpPr>
        <p:spPr>
          <a:xfrm>
            <a:off x="79560" y="2057400"/>
            <a:ext cx="3187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LANES BEING TRANSPERE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AND INBETW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SERVER &amp; OBJEC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52"/>
          <p:cNvSpPr/>
          <p:nvPr/>
        </p:nvSpPr>
        <p:spPr>
          <a:xfrm>
            <a:off x="70920" y="4952880"/>
            <a:ext cx="2634480" cy="9464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60093"/>
                </a:solidFill>
                <a:latin typeface="Tahoma"/>
              </a:rPr>
              <a:t>ACTUAL PATTERN 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60093"/>
                </a:solidFill>
                <a:latin typeface="Tahoma"/>
              </a:rPr>
              <a:t> </a:t>
            </a:r>
            <a:r>
              <a:rPr b="1" lang="en-US" sz="1400" spc="-1" strike="noStrike">
                <a:solidFill>
                  <a:srgbClr val="d60093"/>
                </a:solidFill>
                <a:latin typeface="Tahoma"/>
              </a:rPr>
              <a:t>PLANES &amp; VIEW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60093"/>
                </a:solidFill>
                <a:latin typeface="Tahoma"/>
              </a:rPr>
              <a:t>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60093"/>
                </a:solidFill>
                <a:latin typeface="Tahoma"/>
              </a:rPr>
              <a:t>THIRD ANGLE PROJE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53"/>
          <p:cNvSpPr/>
          <p:nvPr/>
        </p:nvSpPr>
        <p:spPr>
          <a:xfrm flipH="1" flipV="1">
            <a:off x="471240" y="3944880"/>
            <a:ext cx="969840" cy="819360"/>
          </a:xfrm>
          <a:prstGeom prst="rect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54"/>
          <p:cNvSpPr/>
          <p:nvPr/>
        </p:nvSpPr>
        <p:spPr>
          <a:xfrm flipH="1" flipV="1">
            <a:off x="1291680" y="3944880"/>
            <a:ext cx="968040" cy="81936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55"/>
          <p:cNvSpPr/>
          <p:nvPr/>
        </p:nvSpPr>
        <p:spPr>
          <a:xfrm flipH="1" flipV="1">
            <a:off x="1291680" y="3124080"/>
            <a:ext cx="968040" cy="820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56"/>
          <p:cNvSpPr/>
          <p:nvPr/>
        </p:nvSpPr>
        <p:spPr>
          <a:xfrm>
            <a:off x="1598760" y="4186080"/>
            <a:ext cx="382320" cy="319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57"/>
          <p:cNvSpPr/>
          <p:nvPr/>
        </p:nvSpPr>
        <p:spPr>
          <a:xfrm>
            <a:off x="201960" y="3727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58"/>
          <p:cNvSpPr/>
          <p:nvPr/>
        </p:nvSpPr>
        <p:spPr>
          <a:xfrm>
            <a:off x="2238480" y="3770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59"/>
          <p:cNvSpPr/>
          <p:nvPr/>
        </p:nvSpPr>
        <p:spPr>
          <a:xfrm>
            <a:off x="609480" y="4186080"/>
            <a:ext cx="527040" cy="320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60"/>
          <p:cNvSpPr/>
          <p:nvPr/>
        </p:nvSpPr>
        <p:spPr>
          <a:xfrm>
            <a:off x="1584360" y="3400560"/>
            <a:ext cx="384120" cy="3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61"/>
          <p:cNvSpPr/>
          <p:nvPr/>
        </p:nvSpPr>
        <p:spPr>
          <a:xfrm>
            <a:off x="1562400" y="3389400"/>
            <a:ext cx="45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62"/>
          <p:cNvSpPr/>
          <p:nvPr/>
        </p:nvSpPr>
        <p:spPr>
          <a:xfrm>
            <a:off x="497520" y="92160"/>
            <a:ext cx="23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THIRD ANG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PROJ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63"/>
          <p:cNvSpPr/>
          <p:nvPr/>
        </p:nvSpPr>
        <p:spPr>
          <a:xfrm>
            <a:off x="611280" y="4181400"/>
            <a:ext cx="56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S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64"/>
          <p:cNvSpPr/>
          <p:nvPr/>
        </p:nvSpPr>
        <p:spPr>
          <a:xfrm>
            <a:off x="1585800" y="417204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Group 65"/>
          <p:cNvGrpSpPr/>
          <p:nvPr/>
        </p:nvGrpSpPr>
        <p:grpSpPr>
          <a:xfrm>
            <a:off x="8016840" y="46080"/>
            <a:ext cx="1096920" cy="182520"/>
            <a:chOff x="8016840" y="46080"/>
            <a:chExt cx="1096920" cy="182520"/>
          </a:xfrm>
        </p:grpSpPr>
        <p:sp>
          <p:nvSpPr>
            <p:cNvPr id="248" name="AutoShape 66">
              <a:hlinkClick r:id="rId9" action="ppaction://hlinksldjump"/>
            </p:cNvPr>
            <p:cNvSpPr/>
            <p:nvPr/>
          </p:nvSpPr>
          <p:spPr>
            <a:xfrm>
              <a:off x="8016840" y="46080"/>
              <a:ext cx="182520" cy="182520"/>
            </a:xfrm>
            <a:custGeom>
              <a:avLst/>
              <a:gdLst>
                <a:gd name="textAreaLeft" fmla="*/ 11520 w 182520"/>
                <a:gd name="textAreaRight" fmla="*/ 171000 w 182520"/>
                <a:gd name="textAreaTop" fmla="*/ 11520 h 182520"/>
                <a:gd name="textAreaBottom" fmla="*/ 171000 h 18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10800" y="3837"/>
                  </a:moveTo>
                  <a:lnTo>
                    <a:pt x="13376" y="6448"/>
                  </a:lnTo>
                  <a:lnTo>
                    <a:pt x="13376" y="4707"/>
                  </a:lnTo>
                  <a:lnTo>
                    <a:pt x="15152" y="4707"/>
                  </a:lnTo>
                  <a:lnTo>
                    <a:pt x="15152" y="8224"/>
                  </a:lnTo>
                  <a:lnTo>
                    <a:pt x="17763" y="10800"/>
                  </a:lnTo>
                  <a:lnTo>
                    <a:pt x="16109" y="10800"/>
                  </a:lnTo>
                  <a:lnTo>
                    <a:pt x="16109" y="17989"/>
                  </a:lnTo>
                  <a:lnTo>
                    <a:pt x="5491" y="17989"/>
                  </a:lnTo>
                  <a:lnTo>
                    <a:pt x="5491" y="10800"/>
                  </a:lnTo>
                  <a:lnTo>
                    <a:pt x="3837" y="10800"/>
                  </a:lnTo>
                  <a:close/>
                </a:path>
                <a:path fill="darkenLess" w="21600" h="21600">
                  <a:moveTo>
                    <a:pt x="13376" y="6448"/>
                  </a:moveTo>
                  <a:lnTo>
                    <a:pt x="13376" y="4707"/>
                  </a:lnTo>
                  <a:lnTo>
                    <a:pt x="15152" y="4707"/>
                  </a:lnTo>
                  <a:lnTo>
                    <a:pt x="15152" y="8224"/>
                  </a:lnTo>
                  <a:close/>
                </a:path>
                <a:path fill="darkenLess" w="21600" h="21600">
                  <a:moveTo>
                    <a:pt x="9877" y="14299"/>
                  </a:moveTo>
                  <a:lnTo>
                    <a:pt x="11723" y="14299"/>
                  </a:lnTo>
                  <a:lnTo>
                    <a:pt x="11723" y="17989"/>
                  </a:lnTo>
                  <a:lnTo>
                    <a:pt x="16109" y="17989"/>
                  </a:lnTo>
                  <a:lnTo>
                    <a:pt x="16109" y="10800"/>
                  </a:lnTo>
                  <a:lnTo>
                    <a:pt x="5491" y="10800"/>
                  </a:lnTo>
                  <a:lnTo>
                    <a:pt x="5491" y="17989"/>
                  </a:lnTo>
                  <a:lnTo>
                    <a:pt x="9877" y="17989"/>
                  </a:lnTo>
                  <a:close/>
                </a:path>
              </a:pathLst>
            </a:cu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AutoShape 67">
              <a:hlinkClick r:id="" action="ppaction://hlinkshowjump?jump=previousslide"/>
            </p:cNvPr>
            <p:cNvSpPr/>
            <p:nvPr/>
          </p:nvSpPr>
          <p:spPr>
            <a:xfrm>
              <a:off x="8381880" y="46080"/>
              <a:ext cx="184320" cy="182520"/>
            </a:xfrm>
            <a:custGeom>
              <a:avLst/>
              <a:gdLst>
                <a:gd name="textAreaLeft" fmla="*/ 11520 w 184320"/>
                <a:gd name="textAreaRight" fmla="*/ 172800 w 184320"/>
                <a:gd name="textAreaTop" fmla="*/ 11520 h 182520"/>
                <a:gd name="textAreaBottom" fmla="*/ 171000 h 182520"/>
              </a:gdLst>
              <a:ahLst/>
              <a:rect l="textAreaLeft" t="textAreaTop" r="textAreaRight" b="textAreaBottom"/>
              <a:pathLst>
                <a:path w="21813" h="21600">
                  <a:moveTo>
                    <a:pt x="0" y="0"/>
                  </a:moveTo>
                  <a:lnTo>
                    <a:pt x="21813" y="0"/>
                  </a:lnTo>
                  <a:lnTo>
                    <a:pt x="21813" y="21600"/>
                  </a:lnTo>
                  <a:lnTo>
                    <a:pt x="0" y="21600"/>
                  </a:lnTo>
                  <a:close/>
                </a:path>
                <a:path fill="lightenLess" w="21813" h="21600">
                  <a:moveTo>
                    <a:pt x="0" y="0"/>
                  </a:moveTo>
                  <a:lnTo>
                    <a:pt x="21813" y="0"/>
                  </a:lnTo>
                  <a:lnTo>
                    <a:pt x="20413" y="1400"/>
                  </a:lnTo>
                  <a:lnTo>
                    <a:pt x="1400" y="1400"/>
                  </a:lnTo>
                  <a:close/>
                </a:path>
                <a:path fill="darken" w="21813" h="21600">
                  <a:moveTo>
                    <a:pt x="21813" y="0"/>
                  </a:moveTo>
                  <a:lnTo>
                    <a:pt x="21813" y="21600"/>
                  </a:lnTo>
                  <a:lnTo>
                    <a:pt x="20413" y="20200"/>
                  </a:lnTo>
                  <a:lnTo>
                    <a:pt x="20413" y="1400"/>
                  </a:lnTo>
                  <a:close/>
                </a:path>
                <a:path fill="darkenLess" w="21813" h="21600">
                  <a:moveTo>
                    <a:pt x="21813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413" y="20200"/>
                  </a:lnTo>
                  <a:close/>
                </a:path>
                <a:path fill="lighten" w="21813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813" h="21600">
                  <a:moveTo>
                    <a:pt x="3900" y="10800"/>
                  </a:moveTo>
                  <a:lnTo>
                    <a:pt x="17913" y="3794"/>
                  </a:lnTo>
                  <a:lnTo>
                    <a:pt x="17913" y="17806"/>
                  </a:lnTo>
                  <a:close/>
                </a:path>
              </a:pathLst>
            </a:cu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AutoShape 68">
              <a:hlinkClick r:id="" action="ppaction://hlinkshowjump?jump=nextslide"/>
            </p:cNvPr>
            <p:cNvSpPr/>
            <p:nvPr/>
          </p:nvSpPr>
          <p:spPr>
            <a:xfrm>
              <a:off x="8566200" y="46080"/>
              <a:ext cx="182520" cy="182520"/>
            </a:xfrm>
            <a:custGeom>
              <a:avLst/>
              <a:gdLst>
                <a:gd name="textAreaLeft" fmla="*/ 11520 w 182520"/>
                <a:gd name="textAreaRight" fmla="*/ 171000 w 182520"/>
                <a:gd name="textAreaTop" fmla="*/ 11520 h 182520"/>
                <a:gd name="textAreaBottom" fmla="*/ 171000 h 18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3794"/>
                  </a:moveTo>
                  <a:lnTo>
                    <a:pt x="17806" y="10800"/>
                  </a:lnTo>
                  <a:lnTo>
                    <a:pt x="3794" y="17806"/>
                  </a:lnTo>
                  <a:close/>
                </a:path>
              </a:pathLst>
            </a:cu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AutoShape 69">
              <a:hlinkClick r:id="" action="ppaction://hlinkshowjump?jump=firstslide"/>
            </p:cNvPr>
            <p:cNvSpPr/>
            <p:nvPr/>
          </p:nvSpPr>
          <p:spPr>
            <a:xfrm>
              <a:off x="8199360" y="46080"/>
              <a:ext cx="182520" cy="182520"/>
            </a:xfrm>
            <a:custGeom>
              <a:avLst/>
              <a:gdLst>
                <a:gd name="textAreaLeft" fmla="*/ 11520 w 182520"/>
                <a:gd name="textAreaRight" fmla="*/ 171000 w 182520"/>
                <a:gd name="textAreaTop" fmla="*/ 11520 h 182520"/>
                <a:gd name="textAreaBottom" fmla="*/ 171000 h 18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7301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  <a:path fill="darken" w="21600" h="21600">
                  <a:moveTo>
                    <a:pt x="3794" y="3794"/>
                  </a:moveTo>
                  <a:lnTo>
                    <a:pt x="5456" y="3794"/>
                  </a:lnTo>
                  <a:lnTo>
                    <a:pt x="5456" y="17806"/>
                  </a:lnTo>
                  <a:lnTo>
                    <a:pt x="3794" y="17806"/>
                  </a:lnTo>
                  <a:close/>
                </a:path>
              </a:pathLst>
            </a:cu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AutoShape 70">
              <a:hlinkClick r:id="" action="ppaction://hlinkshowjump?jump=lastslide"/>
            </p:cNvPr>
            <p:cNvSpPr/>
            <p:nvPr/>
          </p:nvSpPr>
          <p:spPr>
            <a:xfrm>
              <a:off x="8748720" y="46080"/>
              <a:ext cx="182520" cy="182520"/>
            </a:xfrm>
            <a:custGeom>
              <a:avLst/>
              <a:gdLst>
                <a:gd name="textAreaLeft" fmla="*/ 11520 w 182520"/>
                <a:gd name="textAreaRight" fmla="*/ 171000 w 182520"/>
                <a:gd name="textAreaTop" fmla="*/ 11520 h 182520"/>
                <a:gd name="textAreaBottom" fmla="*/ 171000 h 18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14299" y="10800"/>
                  </a:moveTo>
                  <a:lnTo>
                    <a:pt x="3794" y="17806"/>
                  </a:lnTo>
                  <a:lnTo>
                    <a:pt x="3794" y="3794"/>
                  </a:lnTo>
                  <a:close/>
                </a:path>
                <a:path fill="darken" w="21600" h="21600">
                  <a:moveTo>
                    <a:pt x="16144" y="3794"/>
                  </a:moveTo>
                  <a:lnTo>
                    <a:pt x="16144" y="17806"/>
                  </a:lnTo>
                  <a:lnTo>
                    <a:pt x="17806" y="17806"/>
                  </a:lnTo>
                  <a:lnTo>
                    <a:pt x="17806" y="3794"/>
                  </a:lnTo>
                  <a:close/>
                </a:path>
              </a:pathLst>
            </a:cu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AutoShape 71">
              <a:hlinkClick r:id="" action="ppaction://hlinkshowjump?jump=endshow"/>
            </p:cNvPr>
            <p:cNvSpPr/>
            <p:nvPr/>
          </p:nvSpPr>
          <p:spPr>
            <a:xfrm>
              <a:off x="8931240" y="46080"/>
              <a:ext cx="182520" cy="182520"/>
            </a:xfrm>
            <a:custGeom>
              <a:avLst/>
              <a:gdLst>
                <a:gd name="textAreaLeft" fmla="*/ 11520 w 182520"/>
                <a:gd name="textAreaRight" fmla="*/ 171000 w 182520"/>
                <a:gd name="textAreaTop" fmla="*/ 11520 h 182520"/>
                <a:gd name="textAreaBottom" fmla="*/ 171000 h 18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2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2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7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1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4" descr=""/>
          <p:cNvPicPr/>
          <p:nvPr/>
        </p:nvPicPr>
        <p:blipFill>
          <a:blip r:embed="rId1"/>
          <a:stretch/>
        </p:blipFill>
        <p:spPr>
          <a:xfrm>
            <a:off x="1557360" y="762120"/>
            <a:ext cx="592596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4" descr=""/>
          <p:cNvPicPr/>
          <p:nvPr/>
        </p:nvPicPr>
        <p:blipFill>
          <a:blip r:embed="rId1"/>
          <a:stretch/>
        </p:blipFill>
        <p:spPr>
          <a:xfrm>
            <a:off x="2108160" y="838080"/>
            <a:ext cx="515952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25" descr=""/>
          <p:cNvPicPr/>
          <p:nvPr/>
        </p:nvPicPr>
        <p:blipFill>
          <a:blip r:embed="rId1"/>
          <a:stretch/>
        </p:blipFill>
        <p:spPr>
          <a:xfrm>
            <a:off x="1440" y="1538280"/>
            <a:ext cx="5303880" cy="531972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30" descr=""/>
          <p:cNvPicPr/>
          <p:nvPr/>
        </p:nvPicPr>
        <p:blipFill>
          <a:blip r:embed="rId2"/>
          <a:stretch/>
        </p:blipFill>
        <p:spPr>
          <a:xfrm>
            <a:off x="5178600" y="1028880"/>
            <a:ext cx="3965400" cy="55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3" descr=""/>
          <p:cNvPicPr/>
          <p:nvPr/>
        </p:nvPicPr>
        <p:blipFill>
          <a:blip r:embed="rId1"/>
          <a:stretch/>
        </p:blipFill>
        <p:spPr>
          <a:xfrm>
            <a:off x="0" y="1473120"/>
            <a:ext cx="4495680" cy="433728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6" descr=""/>
          <p:cNvPicPr/>
          <p:nvPr/>
        </p:nvPicPr>
        <p:blipFill>
          <a:blip r:embed="rId2"/>
          <a:stretch/>
        </p:blipFill>
        <p:spPr>
          <a:xfrm>
            <a:off x="4648320" y="2033640"/>
            <a:ext cx="4332240" cy="39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4" descr=""/>
          <p:cNvPicPr/>
          <p:nvPr/>
        </p:nvPicPr>
        <p:blipFill>
          <a:blip r:embed="rId1"/>
          <a:stretch/>
        </p:blipFill>
        <p:spPr>
          <a:xfrm>
            <a:off x="457200" y="1765440"/>
            <a:ext cx="4038480" cy="419400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7" descr=""/>
          <p:cNvPicPr/>
          <p:nvPr/>
        </p:nvPicPr>
        <p:blipFill>
          <a:blip r:embed="rId2"/>
          <a:stretch/>
        </p:blipFill>
        <p:spPr>
          <a:xfrm>
            <a:off x="4648320" y="2004840"/>
            <a:ext cx="403848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4" descr=""/>
          <p:cNvPicPr/>
          <p:nvPr/>
        </p:nvPicPr>
        <p:blipFill>
          <a:blip r:embed="rId1"/>
          <a:stretch/>
        </p:blipFill>
        <p:spPr>
          <a:xfrm>
            <a:off x="457200" y="2033640"/>
            <a:ext cx="4038480" cy="365760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7" descr=""/>
          <p:cNvPicPr/>
          <p:nvPr/>
        </p:nvPicPr>
        <p:blipFill>
          <a:blip r:embed="rId2"/>
          <a:stretch/>
        </p:blipFill>
        <p:spPr>
          <a:xfrm>
            <a:off x="4648320" y="1765440"/>
            <a:ext cx="4038480" cy="41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3T03:25:45Z</dcterms:created>
  <dc:creator>DRDARPE</dc:creator>
  <dc:description/>
  <dc:language>en-US</dc:language>
  <cp:lastModifiedBy>Priya</cp:lastModifiedBy>
  <dcterms:modified xsi:type="dcterms:W3CDTF">2015-09-23T10:59:06Z</dcterms:modified>
  <cp:revision>12</cp:revision>
  <dc:subject/>
  <dc:title>Slide 1</dc:title>
</cp:coreProperties>
</file>